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jpeg" ContentType="image/jpeg"/>
  <Override PartName="/ppt/media/image7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  <p:sldId id="287" r:id="rId40"/>
    <p:sldId id="288" r:id="rId41"/>
    <p:sldId id="289" r:id="rId42"/>
    <p:sldId id="290" r:id="rId43"/>
    <p:sldId id="291" r:id="rId44"/>
    <p:sldId id="292" r:id="rId45"/>
    <p:sldId id="293" r:id="rId46"/>
    <p:sldId id="294" r:id="rId47"/>
    <p:sldId id="295" r:id="rId48"/>
    <p:sldId id="296" r:id="rId49"/>
    <p:sldId id="297" r:id="rId50"/>
    <p:sldId id="298" r:id="rId51"/>
    <p:sldId id="299" r:id="rId52"/>
    <p:sldId id="300" r:id="rId53"/>
    <p:sldId id="301" r:id="rId54"/>
    <p:sldId id="302" r:id="rId55"/>
    <p:sldId id="303" r:id="rId56"/>
    <p:sldId id="304" r:id="rId57"/>
    <p:sldId id="305" r:id="rId58"/>
    <p:sldId id="306" r:id="rId59"/>
    <p:sldId id="307" r:id="rId60"/>
    <p:sldId id="308" r:id="rId61"/>
    <p:sldId id="309" r:id="rId62"/>
    <p:sldId id="310" r:id="rId63"/>
    <p:sldId id="311" r:id="rId64"/>
    <p:sldId id="312" r:id="rId65"/>
    <p:sldId id="313" r:id="rId66"/>
    <p:sldId id="314" r:id="rId67"/>
    <p:sldId id="315" r:id="rId68"/>
    <p:sldId id="316" r:id="rId69"/>
    <p:sldId id="317" r:id="rId70"/>
    <p:sldId id="318" r:id="rId71"/>
    <p:sldId id="319" r:id="rId72"/>
    <p:sldId id="320" r:id="rId7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slide" Target="slides/slide32.xml"/><Relationship Id="rId41" Type="http://schemas.openxmlformats.org/officeDocument/2006/relationships/slide" Target="slides/slide33.xml"/><Relationship Id="rId42" Type="http://schemas.openxmlformats.org/officeDocument/2006/relationships/slide" Target="slides/slide34.xml"/><Relationship Id="rId43" Type="http://schemas.openxmlformats.org/officeDocument/2006/relationships/slide" Target="slides/slide35.xml"/><Relationship Id="rId44" Type="http://schemas.openxmlformats.org/officeDocument/2006/relationships/slide" Target="slides/slide36.xml"/><Relationship Id="rId45" Type="http://schemas.openxmlformats.org/officeDocument/2006/relationships/slide" Target="slides/slide37.xml"/><Relationship Id="rId46" Type="http://schemas.openxmlformats.org/officeDocument/2006/relationships/slide" Target="slides/slide38.xml"/><Relationship Id="rId47" Type="http://schemas.openxmlformats.org/officeDocument/2006/relationships/slide" Target="slides/slide39.xml"/><Relationship Id="rId48" Type="http://schemas.openxmlformats.org/officeDocument/2006/relationships/slide" Target="slides/slide40.xml"/><Relationship Id="rId49" Type="http://schemas.openxmlformats.org/officeDocument/2006/relationships/slide" Target="slides/slide41.xml"/><Relationship Id="rId50" Type="http://schemas.openxmlformats.org/officeDocument/2006/relationships/slide" Target="slides/slide42.xml"/><Relationship Id="rId51" Type="http://schemas.openxmlformats.org/officeDocument/2006/relationships/slide" Target="slides/slide43.xml"/><Relationship Id="rId52" Type="http://schemas.openxmlformats.org/officeDocument/2006/relationships/slide" Target="slides/slide44.xml"/><Relationship Id="rId53" Type="http://schemas.openxmlformats.org/officeDocument/2006/relationships/slide" Target="slides/slide45.xml"/><Relationship Id="rId54" Type="http://schemas.openxmlformats.org/officeDocument/2006/relationships/slide" Target="slides/slide46.xml"/><Relationship Id="rId55" Type="http://schemas.openxmlformats.org/officeDocument/2006/relationships/slide" Target="slides/slide47.xml"/><Relationship Id="rId56" Type="http://schemas.openxmlformats.org/officeDocument/2006/relationships/slide" Target="slides/slide48.xml"/><Relationship Id="rId57" Type="http://schemas.openxmlformats.org/officeDocument/2006/relationships/slide" Target="slides/slide49.xml"/><Relationship Id="rId58" Type="http://schemas.openxmlformats.org/officeDocument/2006/relationships/slide" Target="slides/slide50.xml"/><Relationship Id="rId59" Type="http://schemas.openxmlformats.org/officeDocument/2006/relationships/slide" Target="slides/slide51.xml"/><Relationship Id="rId60" Type="http://schemas.openxmlformats.org/officeDocument/2006/relationships/slide" Target="slides/slide52.xml"/><Relationship Id="rId61" Type="http://schemas.openxmlformats.org/officeDocument/2006/relationships/slide" Target="slides/slide53.xml"/><Relationship Id="rId62" Type="http://schemas.openxmlformats.org/officeDocument/2006/relationships/slide" Target="slides/slide54.xml"/><Relationship Id="rId63" Type="http://schemas.openxmlformats.org/officeDocument/2006/relationships/slide" Target="slides/slide55.xml"/><Relationship Id="rId64" Type="http://schemas.openxmlformats.org/officeDocument/2006/relationships/slide" Target="slides/slide56.xml"/><Relationship Id="rId65" Type="http://schemas.openxmlformats.org/officeDocument/2006/relationships/slide" Target="slides/slide57.xml"/><Relationship Id="rId66" Type="http://schemas.openxmlformats.org/officeDocument/2006/relationships/slide" Target="slides/slide58.xml"/><Relationship Id="rId67" Type="http://schemas.openxmlformats.org/officeDocument/2006/relationships/slide" Target="slides/slide59.xml"/><Relationship Id="rId68" Type="http://schemas.openxmlformats.org/officeDocument/2006/relationships/slide" Target="slides/slide60.xml"/><Relationship Id="rId69" Type="http://schemas.openxmlformats.org/officeDocument/2006/relationships/slide" Target="slides/slide61.xml"/><Relationship Id="rId70" Type="http://schemas.openxmlformats.org/officeDocument/2006/relationships/slide" Target="slides/slide62.xml"/><Relationship Id="rId71" Type="http://schemas.openxmlformats.org/officeDocument/2006/relationships/slide" Target="slides/slide63.xml"/><Relationship Id="rId72" Type="http://schemas.openxmlformats.org/officeDocument/2006/relationships/slide" Target="slides/slide64.xml"/><Relationship Id="rId73" Type="http://schemas.openxmlformats.org/officeDocument/2006/relationships/slide" Target="slides/slide65.xml"/><Relationship Id="rId7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18AC0-C0C4-4016-9BA6-2A0FD6FC4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3DCFE-F195-4123-85F5-6D90F862C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69A5A-06DF-437D-8AFC-A1D04FF12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1FC0F-77C7-488E-A07E-EE2001565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85580-92E0-4921-A5EB-843BB567F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F3C24-B8E1-4BC3-8DD6-BF6526FEA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5C490-25F9-47E3-80A7-135D1B9E9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0B7DF-74AA-483C-BDD8-462CE22D9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A8E38-EF0A-419A-A974-7F3AE1C1E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77A41-58D2-42C8-8DEA-1ED982681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41B22-5A7F-4035-8CDC-E3BED2C5A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67BC3-78C7-4A9C-97FE-5E868A8F5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72CEA-3D2C-4703-9E31-7BB9A8B0F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7904D-046A-48F2-81F0-C395639B3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7E9CF-8AC2-456A-82E3-8AE3103A6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ADEA6-760E-48C8-9CE7-E18F22246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27981-3F3C-4649-80C9-3E20D1161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68996D-92E4-4A61-A134-B29C20456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7576FF-2DB9-4839-8F21-FBB98A259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0F1951-41E4-4C55-8F38-E427CB189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565C0B-9591-403D-8B10-5202E2B2D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6DB86B-F88E-46C3-BA07-CEAC0FFDB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5622C-8319-403E-800C-C8D58CD56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6B039C-2CD1-4FC2-8732-55EC3FD7C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DA9ED5-761C-46A7-8E7E-660B416CF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7F0A39-F554-4169-8B79-1090EB6F0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DBF2D5-DF8B-4335-8846-404759476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BAB47E-7FA6-4BF2-9FD4-028D1EAC6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4A6664-B17B-48AA-854F-6A96AFB8A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7D6DEA-183A-486D-8174-B70F79FE9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AE0D72-1280-42A1-962C-57CAA6F47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7DC1AB-A284-412A-9E55-7AB767B93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7C4D77-F6CC-4DD5-ADAF-A288EDB14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42259-21E7-463A-96DA-2A399F532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8880CC-D299-4997-8265-78B013E30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3054BC-EBF4-495E-9C88-CBCA43AF3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787F14-F12F-4928-8E9D-ED78C45B1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DA6B88-36D7-4253-A8A2-D61077EBF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95E61A-96A8-471C-B32C-3E5952178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1FA985-FB70-434F-94B5-553F00AD5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0392C3-1B15-454C-BF75-F3149C885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A5B5D1-C7EE-4C08-98E0-60990575A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11175C-1C5D-40C6-8BFE-FAFC5C46C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847702-0972-4188-9D89-959C2FD51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2D687-F5E7-4C30-A02E-C099E315C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A8A76A-71FE-4A6D-9440-A8AEAAD0F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2BD4BA-797E-4B10-8BC9-98DFA4C9F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97C779-067A-4A5D-BA33-04727ED13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53327E-92A8-4414-9D85-4EAD6D515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C1500A-F113-48CD-83F1-10BED2043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ED77AB-E484-41C5-AF18-AC12E6F80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AAC604-55B4-4490-B381-B156B9A74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10D808-6F4B-46E6-B9F3-72F7B48A6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DB7263-B91C-42DF-86AC-AF7907417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6FF374-D62D-425C-BB80-BE717C579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AF3EA-510F-4B1D-8C65-9CC486524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E43D1E-932C-47E7-A503-175A58ABB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83B860-ABF0-4912-BDCC-1194FC3EE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500A0B-5198-4743-9018-05782FDC6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72C3C9-5481-4110-AD8E-D0EE7DF10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E54370-3124-40D8-BA85-7B290EA1C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192273-BBA4-49BE-9883-5B6EA5D8E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7EF38D-8D59-4845-8D9A-7DB095D9A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812FDC-C8A3-4676-8FE0-3A5AB0B6A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A7AD66-33D0-4B4A-A4B8-4C5B1D570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D2BC07-2A5A-47D2-AED8-F4D206C70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A5B04-8E14-4960-B119-382670F27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2B4AF3-A567-4C0B-9D6F-202544D40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00476A-DF09-42B5-A8C8-119FF864C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631E84-129A-412A-876C-54B120DD6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C395FC-0D71-49B9-A270-B86CF24AD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F22A5C-6530-4A03-B4CB-8991B00CC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311C74-736D-4D41-9EA6-934919C2D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3C7B38-4F4E-4F29-9656-2D983BC6A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890D0D-77AC-4FFC-AC5C-A46DA51AA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80B6AC-D906-4AD7-BEC6-711F254B7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8C1AB1-A0D6-4B2C-B0E0-9B0EE0998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93F18-52F3-4B4E-9AAD-9A0C81981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969072-249A-4BC7-AA20-C9A1A6A38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098BB2-24B6-4E2F-9CEB-FCFD27BD7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C7A18E-5932-4A07-A777-91FCF9D26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alibri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15FB8E-DE8E-43B4-9A42-0FDDE1EAA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5D7A46-2F30-4DD2-9744-2E2E48ABD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9ADFE-C653-4A2F-A64C-F3304F5D5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6f4f9">
              <a:alpha val="33000"/>
            </a:srgbClr>
          </a:solidFill>
          <a:ln cap="rnd" w="3240">
            <a:solidFill>
              <a:srgbClr val="ab9fb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e8e0f2"/>
            </a:solidFill>
            <a:miter/>
          </a:ln>
          <a:effectLst>
            <a:outerShdw dist="12600" dir="5400000" blurRad="0" rotWithShape="0">
              <a:srgbClr val="938b9c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69666e"/>
                </a:solidFill>
                <a:latin typeface="Calibri"/>
              </a:rPr>
              <a:t>Click to edit the title text format</a:t>
            </a:r>
            <a:endParaRPr b="0" lang="en-US" sz="4300" spc="-1" strike="noStrike">
              <a:solidFill>
                <a:srgbClr val="69666e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36520">
              <a:spcBef>
                <a:spcPts val="601"/>
              </a:spcBef>
              <a:buClr>
                <a:srgbClr val="ceb96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885960" indent="-228600">
              <a:spcBef>
                <a:spcPts val="601"/>
              </a:spcBef>
              <a:buClr>
                <a:srgbClr val="9cb08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173160">
              <a:spcBef>
                <a:spcPts val="601"/>
              </a:spcBef>
              <a:buClr>
                <a:srgbClr val="6bb1c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297080" indent="-182520">
              <a:spcBef>
                <a:spcPts val="601"/>
              </a:spcBef>
              <a:buClr>
                <a:srgbClr val="6585c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3889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3889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3889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42C8B-B6DF-4B1C-A4F5-D45D71B38ADE}" type="slidenum">
              <a:rPr b="0" lang="en-US" sz="1200" spc="-1" strike="noStrike">
                <a:solidFill>
                  <a:srgbClr val="93889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05c64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6f4f9">
              <a:alpha val="33000"/>
            </a:srgbClr>
          </a:solidFill>
          <a:ln cap="rnd" w="3240">
            <a:solidFill>
              <a:srgbClr val="ab9fb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e8e0f2"/>
            </a:solidFill>
            <a:miter/>
          </a:ln>
          <a:effectLst>
            <a:outerShdw dist="12600" dir="5400000" blurRad="0" rotWithShape="0">
              <a:srgbClr val="938b9c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05c64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Oval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Oval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Oval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b5a359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69666e"/>
                </a:solidFill>
                <a:latin typeface="Calibri"/>
              </a:rPr>
              <a:t>Click to edit the title text format</a:t>
            </a:r>
            <a:endParaRPr b="0" lang="en-US" sz="4300" spc="-1" strike="noStrike">
              <a:solidFill>
                <a:srgbClr val="69666e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36520">
              <a:spcBef>
                <a:spcPts val="601"/>
              </a:spcBef>
              <a:buClr>
                <a:srgbClr val="ceb96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885960" indent="-228600">
              <a:spcBef>
                <a:spcPts val="601"/>
              </a:spcBef>
              <a:buClr>
                <a:srgbClr val="9cb08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173160">
              <a:spcBef>
                <a:spcPts val="601"/>
              </a:spcBef>
              <a:buClr>
                <a:srgbClr val="6bb1c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297080" indent="-182520">
              <a:spcBef>
                <a:spcPts val="601"/>
              </a:spcBef>
              <a:buClr>
                <a:srgbClr val="6585c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3889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3889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3889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0665B-F4CE-492C-94BE-6B59F64CE446}" type="slidenum">
              <a:rPr b="0" lang="en-US" sz="1200" spc="-1" strike="noStrike">
                <a:solidFill>
                  <a:srgbClr val="93889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05c64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Oval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Oval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Oval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b5a359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69666e"/>
                </a:solidFill>
                <a:latin typeface="Calibri"/>
              </a:rPr>
              <a:t>Click to edit the title text format</a:t>
            </a:r>
            <a:endParaRPr b="0" lang="en-US" sz="4300" spc="-1" strike="noStrike">
              <a:solidFill>
                <a:srgbClr val="69666e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36520">
              <a:spcBef>
                <a:spcPts val="601"/>
              </a:spcBef>
              <a:buClr>
                <a:srgbClr val="ceb96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885960" indent="-228600">
              <a:spcBef>
                <a:spcPts val="601"/>
              </a:spcBef>
              <a:buClr>
                <a:srgbClr val="9cb08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173160">
              <a:spcBef>
                <a:spcPts val="601"/>
              </a:spcBef>
              <a:buClr>
                <a:srgbClr val="6bb1c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297080" indent="-182520">
              <a:spcBef>
                <a:spcPts val="601"/>
              </a:spcBef>
              <a:buClr>
                <a:srgbClr val="6585c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3889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3889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3889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912A4-739B-40A7-9A58-BBA8FE28A346}" type="slidenum">
              <a:rPr b="0" lang="en-US" sz="1200" spc="-1" strike="noStrike">
                <a:solidFill>
                  <a:srgbClr val="93889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69666e"/>
                </a:solidFill>
                <a:latin typeface="Calibri"/>
              </a:rPr>
              <a:t>Click to edit the title text format</a:t>
            </a:r>
            <a:endParaRPr b="0" lang="en-US" sz="4300" spc="-1" strike="noStrike">
              <a:solidFill>
                <a:srgbClr val="69666e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36520">
              <a:spcBef>
                <a:spcPts val="601"/>
              </a:spcBef>
              <a:buClr>
                <a:srgbClr val="ceb96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885960" indent="-228600">
              <a:spcBef>
                <a:spcPts val="601"/>
              </a:spcBef>
              <a:buClr>
                <a:srgbClr val="9cb08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173160">
              <a:spcBef>
                <a:spcPts val="601"/>
              </a:spcBef>
              <a:buClr>
                <a:srgbClr val="6bb1c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297080" indent="-182520">
              <a:spcBef>
                <a:spcPts val="601"/>
              </a:spcBef>
              <a:buClr>
                <a:srgbClr val="6585c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3889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3889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3889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1B75C-16E9-42AC-AC8D-9E786B6E98E6}" type="slidenum">
              <a:rPr b="0" lang="en-US" sz="1200" spc="-1" strike="noStrike">
                <a:solidFill>
                  <a:srgbClr val="93889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05c64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69666e"/>
                </a:solidFill>
                <a:latin typeface="Calibri"/>
              </a:rPr>
              <a:t>Click to edit the title text format</a:t>
            </a:r>
            <a:endParaRPr b="0" lang="en-US" sz="4300" spc="-1" strike="noStrike">
              <a:solidFill>
                <a:srgbClr val="69666e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36520">
              <a:spcBef>
                <a:spcPts val="601"/>
              </a:spcBef>
              <a:buClr>
                <a:srgbClr val="ceb96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885960" indent="-228600">
              <a:spcBef>
                <a:spcPts val="601"/>
              </a:spcBef>
              <a:buClr>
                <a:srgbClr val="9cb08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173160">
              <a:spcBef>
                <a:spcPts val="601"/>
              </a:spcBef>
              <a:buClr>
                <a:srgbClr val="6bb1c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297080" indent="-182520">
              <a:spcBef>
                <a:spcPts val="601"/>
              </a:spcBef>
              <a:buClr>
                <a:srgbClr val="6585c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3889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3889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3889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79A5C-00D5-44DE-948D-79FF980345DF}" type="slidenum">
              <a:rPr b="0" lang="en-US" sz="1200" spc="-1" strike="noStrike">
                <a:solidFill>
                  <a:srgbClr val="93889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69666e"/>
                </a:solidFill>
                <a:latin typeface="Calibri"/>
              </a:rPr>
              <a:t>Click to edit the title text format</a:t>
            </a:r>
            <a:endParaRPr b="0" lang="en-US" sz="4300" spc="-1" strike="noStrike">
              <a:solidFill>
                <a:srgbClr val="69666e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36520">
              <a:spcBef>
                <a:spcPts val="601"/>
              </a:spcBef>
              <a:buClr>
                <a:srgbClr val="ceb96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885960" indent="-228600">
              <a:spcBef>
                <a:spcPts val="601"/>
              </a:spcBef>
              <a:buClr>
                <a:srgbClr val="9cb08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173160">
              <a:spcBef>
                <a:spcPts val="601"/>
              </a:spcBef>
              <a:buClr>
                <a:srgbClr val="6bb1c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297080" indent="-182520">
              <a:spcBef>
                <a:spcPts val="601"/>
              </a:spcBef>
              <a:buClr>
                <a:srgbClr val="6585c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3889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3889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3889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BE77B-CD30-48DE-93C1-9687C7726D88}" type="slidenum">
              <a:rPr b="0" lang="en-US" sz="1200" spc="-1" strike="noStrike">
                <a:solidFill>
                  <a:srgbClr val="93889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Rectangle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Rectangle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Flowchart: Process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bfb2cf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Flowchart: Process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c9c2d1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69666e"/>
                </a:solidFill>
                <a:latin typeface="Calibri"/>
              </a:rPr>
              <a:t>Click to edit the title text format</a:t>
            </a:r>
            <a:endParaRPr b="0" lang="en-US" sz="4300" spc="-1" strike="noStrike">
              <a:solidFill>
                <a:srgbClr val="69666e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36520">
              <a:spcBef>
                <a:spcPts val="601"/>
              </a:spcBef>
              <a:buClr>
                <a:srgbClr val="ceb96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885960" indent="-228600">
              <a:spcBef>
                <a:spcPts val="601"/>
              </a:spcBef>
              <a:buClr>
                <a:srgbClr val="9cb08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173160">
              <a:spcBef>
                <a:spcPts val="601"/>
              </a:spcBef>
              <a:buClr>
                <a:srgbClr val="6bb1c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297080" indent="-182520">
              <a:spcBef>
                <a:spcPts val="601"/>
              </a:spcBef>
              <a:buClr>
                <a:srgbClr val="6585c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3889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3889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3889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9208D-9B42-4E75-9910-D0600F1B6550}" type="slidenum">
              <a:rPr b="0" lang="en-US" sz="1200" spc="-1" strike="noStrike">
                <a:solidFill>
                  <a:srgbClr val="93889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edf.kg.ac.yu/" TargetMode="Externa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ncpanet.org/media/releases/2006/take_as_directed.php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ophthalmologyweb.com/" TargetMode="External"/><Relationship Id="rId2" Type="http://schemas.openxmlformats.org/officeDocument/2006/relationships/slideLayout" Target="../slideLayouts/slideLayout4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www.harrisinteractive.com/news/allnewsbydate.asp?NewsID=904" TargetMode="External"/><Relationship Id="rId2" Type="http://schemas.openxmlformats.org/officeDocument/2006/relationships/hyperlink" Target="http://www.ashp.org/s_ashp/docs/files/PR_Over65.pdf" TargetMode="External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4"/>
          <p:cNvSpPr/>
          <p:nvPr/>
        </p:nvSpPr>
        <p:spPr>
          <a:xfrm>
            <a:off x="2202480" y="500040"/>
            <a:ext cx="43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69676d"/>
                </a:solidFill>
                <a:latin typeface="Times New Roman"/>
              </a:rPr>
              <a:t>Факултет медицинских наука у Крагујевц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69676d"/>
                </a:solidFill>
                <a:latin typeface="Times New Roman"/>
              </a:rPr>
              <a:t>Интегрисане академске студије медици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Picture 5" descr="mf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101080" y="0"/>
            <a:ext cx="1042920" cy="1405080"/>
          </a:xfrm>
          <a:prstGeom prst="rect">
            <a:avLst/>
          </a:prstGeom>
          <a:ln w="0">
            <a:noFill/>
          </a:ln>
        </p:spPr>
      </p:pic>
      <p:sp>
        <p:nvSpPr>
          <p:cNvPr id="320" name="Rectangle 6"/>
          <p:cNvSpPr/>
          <p:nvPr/>
        </p:nvSpPr>
        <p:spPr>
          <a:xfrm>
            <a:off x="324000" y="1752480"/>
            <a:ext cx="83818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9676d"/>
                </a:solidFill>
                <a:latin typeface="Times New Roman"/>
              </a:rPr>
              <a:t>МОДУЛ </a:t>
            </a:r>
            <a:r>
              <a:rPr b="1" lang="sr-CS" sz="2400" spc="-1" strike="noStrike">
                <a:solidFill>
                  <a:srgbClr val="69676d"/>
                </a:solidFill>
                <a:latin typeface="Times New Roman"/>
              </a:rPr>
              <a:t>2</a:t>
            </a:r>
            <a:r>
              <a:rPr b="1" lang="ru-RU" sz="2400" spc="-1" strike="noStrike">
                <a:solidFill>
                  <a:srgbClr val="69676d"/>
                </a:solidFill>
                <a:latin typeface="Times New Roman"/>
              </a:rPr>
              <a:t>:</a:t>
            </a:r>
            <a:r>
              <a:rPr b="1" lang="ru-RU" sz="2800" spc="-1" strike="noStrike">
                <a:solidFill>
                  <a:srgbClr val="69676d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69676d"/>
                </a:solidFill>
                <a:latin typeface="Times New Roman"/>
              </a:rPr>
              <a:t>Посебни видови вештине комуникаци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7"/>
          <p:cNvSpPr/>
          <p:nvPr/>
        </p:nvSpPr>
        <p:spPr>
          <a:xfrm>
            <a:off x="1763640" y="3124080"/>
            <a:ext cx="5616720" cy="21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>
                <a:solidFill>
                  <a:srgbClr val="69676d"/>
                </a:solidFill>
                <a:latin typeface="Times New Roman"/>
              </a:rPr>
              <a:t>10. наставна јединица (десета недеља)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9676d"/>
                </a:solidFill>
                <a:latin typeface="Times New Roman"/>
              </a:rPr>
              <a:t>Вештина комуникације код спровођења дијагностичко терапијских процеду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8"/>
          <p:cNvSpPr/>
          <p:nvPr/>
        </p:nvSpPr>
        <p:spPr>
          <a:xfrm>
            <a:off x="4053960" y="5877000"/>
            <a:ext cx="325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69676d"/>
                </a:solidFill>
                <a:latin typeface="Times New Roman"/>
              </a:rPr>
              <a:t>Доц. др Сунчица Срећкови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300" spc="-1" strike="noStrike">
                <a:solidFill>
                  <a:srgbClr val="69666e"/>
                </a:solidFill>
                <a:latin typeface="Calibri"/>
              </a:rPr>
              <a:t>Двосмерна комуникација</a:t>
            </a:r>
            <a:endParaRPr b="0" lang="en-US" sz="4300" spc="-1" strike="noStrike">
              <a:solidFill>
                <a:srgbClr val="69666e"/>
              </a:solidFill>
              <a:latin typeface="Calibri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1071360" y="1447920"/>
            <a:ext cx="7862760" cy="51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Кључни елемент за постизање добре комплијансе је развити однос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оверења, емпатије и сигурности да ће лекар поступити у интересу пацијента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Добра комуникација зависи од доброг слушањ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Омогућити пацијенту да поставља питања, схвати озбиљност свог поремећаја, извага предност и недостатке предложеног дијагностичког и терапијског план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300" spc="-1" strike="noStrike">
                <a:solidFill>
                  <a:srgbClr val="69666e"/>
                </a:solidFill>
                <a:latin typeface="Calibri"/>
              </a:rPr>
              <a:t>Комуникација</a:t>
            </a:r>
            <a:endParaRPr b="0" lang="en-US" sz="4300" spc="-1" strike="noStrike">
              <a:solidFill>
                <a:srgbClr val="69666e"/>
              </a:solidFill>
              <a:latin typeface="Calibri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571680" y="1447560"/>
            <a:ext cx="8572320" cy="526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73960">
              <a:lnSpc>
                <a:spcPct val="9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Лекар траба да говори полако, јасно и довољно гласно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53880" indent="-273960">
              <a:lnSpc>
                <a:spcPct val="9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Поједноставите информације, не користити медицинску терминологију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53880" indent="-273960">
              <a:lnSpc>
                <a:spcPct val="9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Држите се једне теме јер преоптерећеност информецијама може да збуни пацијента (најпре дискутујте природу болести, затим терапијске опције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53880" indent="-273960">
              <a:lnSpc>
                <a:spcPct val="9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Обезбеди јасно објашњење о начину узимања терапије и предузимању дијагностичке процедуре, објашњење зашто је то неопходно и шта се очекује у току третмана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53880" indent="-273960">
              <a:lnSpc>
                <a:spcPct val="9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Пацијенту се морају објаснити сви нежељени ефекти предузимања као и непредузимања наведених терапијских поступака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1142640" y="1447560"/>
            <a:ext cx="77914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Писана упутства омогућавају пацијенту да касније у мање стресним условима прегледа ваше инструкције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Помажу да се избегну евентуалне грешке узроковане лошим разумевањем  лекара и пацијента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Однос поверења између лекара и пацијента омогућава лекару да правилно сагледа стање пацијента и процени да ли је одсуство ефикасности лека резултат не раговања на терапију или не узимања терапије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Пацијент мора имати активну улога у лечењу и мора преузети одговорност за своје здравстено стање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Поштовање пацијентове аутономије и приступ као равномерном партнеру  олакшава доношење заједничке одлуке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Добра комуникација је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посебно важна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у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случају сложених здравствених проблема који укључују ангажовање више различитих специјалиста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700" spc="-1" strike="noStrike">
                <a:solidFill>
                  <a:srgbClr val="000000"/>
                </a:solidFill>
                <a:latin typeface="Calibri"/>
              </a:rPr>
              <a:t>Обједињени дијагностичко терапијски план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је једноставнији, омогућава избегавање непотребног понављања лабораторијских и дијагностичких тестова, помаже смањивању броја 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нежељених ефеката и интеракције са другим лековима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штеди новац и време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300" spc="-1" strike="noStrike">
                <a:solidFill>
                  <a:srgbClr val="69666e"/>
                </a:solidFill>
                <a:latin typeface="Calibri"/>
              </a:rPr>
              <a:t>Дефиниције</a:t>
            </a:r>
            <a:endParaRPr b="0" lang="en-US" sz="4300" spc="-1" strike="noStrike">
              <a:solidFill>
                <a:srgbClr val="69666e"/>
              </a:solidFill>
              <a:latin typeface="Calibri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2700" spc="-1" strike="noStrike">
                <a:solidFill>
                  <a:srgbClr val="000000"/>
                </a:solidFill>
                <a:latin typeface="Calibri"/>
              </a:rPr>
              <a:t>Комплијанса</a:t>
            </a:r>
            <a:r>
              <a:rPr b="1" lang="sr-RS" sz="2700" spc="-1" strike="noStrike">
                <a:solidFill>
                  <a:srgbClr val="000000"/>
                </a:solidFill>
                <a:latin typeface="Calibri"/>
              </a:rPr>
              <a:t> : </a:t>
            </a:r>
            <a:r>
              <a:rPr b="0" lang="sr-RS" sz="2700" spc="-1" strike="noStrike">
                <a:solidFill>
                  <a:srgbClr val="000000"/>
                </a:solidFill>
                <a:latin typeface="Calibri"/>
              </a:rPr>
              <a:t>степен у коме пацијент узима прописану терапију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RS" sz="27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sr-RS" sz="2700" spc="-1" strike="noStrike">
                <a:solidFill>
                  <a:srgbClr val="000000"/>
                </a:solidFill>
                <a:latin typeface="Calibri"/>
              </a:rPr>
              <a:t>Да, узимам лекове”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2700" spc="-1" strike="noStrike">
                <a:solidFill>
                  <a:srgbClr val="000000"/>
                </a:solidFill>
                <a:latin typeface="Calibri"/>
              </a:rPr>
              <a:t>Адхеренција</a:t>
            </a:r>
            <a:r>
              <a:rPr b="0" i="1" lang="sr-RS" sz="27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sr-RS" sz="2700" spc="-1" strike="noStrike">
                <a:solidFill>
                  <a:srgbClr val="000000"/>
                </a:solidFill>
                <a:latin typeface="Calibri"/>
              </a:rPr>
              <a:t> степен у коме пацијент узима терапију на начин како му је прописана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RS" sz="2700" spc="-1" strike="noStrike">
                <a:solidFill>
                  <a:srgbClr val="000000"/>
                </a:solidFill>
                <a:latin typeface="Calibri"/>
              </a:rPr>
              <a:t>“ </a:t>
            </a:r>
            <a:r>
              <a:rPr b="0" lang="sr-RS" sz="2700" spc="-1" strike="noStrike">
                <a:solidFill>
                  <a:srgbClr val="000000"/>
                </a:solidFill>
                <a:latin typeface="Calibri"/>
              </a:rPr>
              <a:t>Да, узимам лекови који су прописани, као што је прописано”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2700" spc="-1" strike="noStrike">
                <a:solidFill>
                  <a:srgbClr val="000000"/>
                </a:solidFill>
                <a:latin typeface="Calibri"/>
              </a:rPr>
              <a:t>Перзистенција</a:t>
            </a:r>
            <a:r>
              <a:rPr b="0" lang="sr-RS" sz="2700" spc="-1" strike="noStrike">
                <a:solidFill>
                  <a:srgbClr val="000000"/>
                </a:solidFill>
                <a:latin typeface="Calibri"/>
              </a:rPr>
              <a:t>: дужина времена током ког пацијент наставља да узима прописане лекове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RS" sz="27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sr-RS" sz="2700" spc="-1" strike="noStrike">
                <a:solidFill>
                  <a:srgbClr val="000000"/>
                </a:solidFill>
                <a:latin typeface="Calibri"/>
              </a:rPr>
              <a:t>Да, узимам лекове током последњих 6 месеци као што је прописан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3200" spc="-1" strike="noStrike">
                <a:solidFill>
                  <a:srgbClr val="000000"/>
                </a:solidFill>
                <a:latin typeface="Calibri"/>
              </a:rPr>
              <a:t>Дискомплијанса</a:t>
            </a: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е користи да прикаже тешкоће у узимању прописане терапије условљене неким физичким проблемом пацијента нпр. артритис, слепил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3200" spc="-1" strike="noStrike">
                <a:solidFill>
                  <a:srgbClr val="000000"/>
                </a:solidFill>
                <a:latin typeface="Calibri"/>
              </a:rPr>
              <a:t>Алијанса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 представља посебан облик адхеренције код које је потребна подршка околине пацијента у спровођењу терапијског поступк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6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sr-RS" sz="6000" spc="-1" strike="noStrike">
                <a:solidFill>
                  <a:srgbClr val="000000"/>
                </a:solidFill>
                <a:latin typeface="Calibri"/>
              </a:rPr>
              <a:t>Лекови не делују ако их пацијент не узима”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sr-R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U.S. Surgeon General C. Everett Koop, MD </a:t>
            </a: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sr-R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300" spc="-1" strike="noStrike">
                <a:solidFill>
                  <a:srgbClr val="69666e"/>
                </a:solidFill>
                <a:latin typeface="Calibri"/>
              </a:rPr>
              <a:t>Најчешћи проблеми у терапији</a:t>
            </a:r>
            <a:endParaRPr b="0" lang="en-US" sz="4300" spc="-1" strike="noStrike">
              <a:solidFill>
                <a:srgbClr val="69666e"/>
              </a:solidFill>
              <a:latin typeface="Calibri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Пацијент не користи терапију редовн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Пацијент не реагује на терапију или постоји недовољна ефикаснос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Нежељени ефекти терапиј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/>
          </p:nvPr>
        </p:nvSpPr>
        <p:spPr>
          <a:xfrm>
            <a:off x="1356840" y="1356840"/>
            <a:ext cx="7497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7000"/>
          </a:bodyPr>
          <a:p>
            <a:pPr marL="207720" indent="-160920">
              <a:lnSpc>
                <a:spcPct val="8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Лошу комплијансу је тешко открит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07720" indent="-160920">
              <a:lnSpc>
                <a:spcPct val="8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Нико нема комплијансу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100%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и сваки пацијент повремено изостави неку доз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07720" indent="-160920">
              <a:lnSpc>
                <a:spcPct val="8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Колико се то често дешав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07720" indent="-160920">
              <a:lnSpc>
                <a:spcPct val="8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Степен комплијансе расте непосредно пре заказане контроле и добијени резултати не приказују често реално стање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“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hite coat adherenc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” 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07720" indent="-160920">
              <a:lnSpc>
                <a:spcPct val="8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И лекари и пацијенти прецењују комплијанс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07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07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07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07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07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07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07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07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07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07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07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300" spc="-1" strike="noStrike">
                <a:solidFill>
                  <a:srgbClr val="69666e"/>
                </a:solidFill>
                <a:latin typeface="Calibri"/>
              </a:rPr>
              <a:t>Значај комплијансе </a:t>
            </a:r>
            <a:endParaRPr b="0" lang="en-US" sz="4300" spc="-1" strike="noStrike">
              <a:solidFill>
                <a:srgbClr val="69666e"/>
              </a:solidFill>
              <a:latin typeface="Calibri"/>
            </a:endParaRPr>
          </a:p>
        </p:txBody>
      </p:sp>
      <p:sp>
        <p:nvSpPr>
          <p:cNvPr id="349" name="Text Box 5"/>
          <p:cNvSpPr/>
          <p:nvPr/>
        </p:nvSpPr>
        <p:spPr>
          <a:xfrm>
            <a:off x="1214280" y="5929200"/>
            <a:ext cx="8229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Bieszk N, Patel R, Heaberlin A, et al. Detection of medication nonadherence through review of pharmacy claims data. Am J Health Syst Pharm 2003 Feb 15;60(4):360-6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900" spc="-1" strike="noStrike">
                <a:solidFill>
                  <a:srgbClr val="69666e"/>
                </a:solidFill>
                <a:latin typeface="Calibri"/>
              </a:rPr>
              <a:t>Размере проблема комплијансе</a:t>
            </a:r>
            <a:endParaRPr b="0" lang="en-US" sz="3900" spc="-1" strike="noStrike">
              <a:solidFill>
                <a:srgbClr val="69666e"/>
              </a:solidFill>
              <a:latin typeface="Calibri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1142640" y="1447920"/>
            <a:ext cx="7791480" cy="51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Већина пацијената верује да има добру комплијансу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67% </a:t>
            </a: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изјављује да строго прати прописане доз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75% </a:t>
            </a: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показује известан степен некомплијанс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3% </a:t>
            </a: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не подигне прописане леков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Близу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50% </a:t>
            </a: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прекине терапију током првих 6 месец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Комплијанса не зависи од пола и година, среће се код свих степена образовања и социјално-економског статус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sterberg L, Blaschke T. Adherence to medication. N Engl J Med. 2005;353:487-497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tional Community Pharmacists Association Web site. Take As Directed: A Prescription Not Followed. December 15, 2006. Available at:</a:t>
            </a:r>
            <a:r>
              <a:rPr b="0" lang="en-US" sz="1200" spc="-1" strike="noStrike" u="sng">
                <a:solidFill>
                  <a:srgbClr val="410082"/>
                </a:solidFill>
                <a:uFillTx/>
                <a:latin typeface="Calibri"/>
                <a:hlinkClick r:id="rId1"/>
              </a:rPr>
              <a:t>www.ncpanet.org/media/releases/2006/take_as_directed.php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(Accessed July 1, 2008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rdstrom BL, Friedman DS,Mozaffari E, Quigley HA,Walker AM. Persistence and adherence with topical glaucoma therapy. Am J Ophthalmol. 2005;140:598-606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нформисање, едуковање пацијента и развијање међусобне добре комуникације су предуслови доброг исхода лечењ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Text Box 4"/>
          <p:cNvSpPr/>
          <p:nvPr/>
        </p:nvSpPr>
        <p:spPr>
          <a:xfrm>
            <a:off x="214200" y="3571920"/>
            <a:ext cx="2971800" cy="40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000000"/>
                </a:solidFill>
                <a:latin typeface="Arial"/>
              </a:rPr>
              <a:t>Интеракција пацијента и система здравствене заштит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Слаба доступност или пропуштање заказаних терми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Лош третман од стране здравствених радн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Недоступност леко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Укључивање различитих терапиј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Недоступност апоте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Висока цена лек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5"/>
          <p:cNvSpPr/>
          <p:nvPr/>
        </p:nvSpPr>
        <p:spPr>
          <a:xfrm>
            <a:off x="457200" y="228600"/>
            <a:ext cx="7315200" cy="175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000000"/>
                </a:solidFill>
                <a:latin typeface="Arial"/>
              </a:rPr>
              <a:t>Лоша комуникација између лекара и пацијен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Пацијент слабо разуме природу своје боле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Пацијент слабо разуме корист и ризик третма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Пацијент слабо разуме правилно коришћење леко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Прописани  терапијски режим је сложен за пацијен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6"/>
          <p:cNvSpPr/>
          <p:nvPr/>
        </p:nvSpPr>
        <p:spPr>
          <a:xfrm>
            <a:off x="6095880" y="4114800"/>
            <a:ext cx="3048120" cy="22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000000"/>
                </a:solidFill>
                <a:latin typeface="Arial"/>
              </a:rPr>
              <a:t>Интеракција лекара и система здравствене заштит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Непознавање цена леко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Непознавање система функционисања осигурањ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Недовољна сатисфакција посл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Oval 7"/>
          <p:cNvSpPr/>
          <p:nvPr/>
        </p:nvSpPr>
        <p:spPr>
          <a:xfrm>
            <a:off x="3809880" y="3657600"/>
            <a:ext cx="1752840" cy="17524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Oval 8"/>
          <p:cNvSpPr/>
          <p:nvPr/>
        </p:nvSpPr>
        <p:spPr>
          <a:xfrm>
            <a:off x="1981080" y="1752480"/>
            <a:ext cx="1752840" cy="1752840"/>
          </a:xfrm>
          <a:prstGeom prst="ellipse">
            <a:avLst/>
          </a:prstGeom>
          <a:solidFill>
            <a:srgbClr val="ceb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Oval 9"/>
          <p:cNvSpPr/>
          <p:nvPr/>
        </p:nvSpPr>
        <p:spPr>
          <a:xfrm>
            <a:off x="5715000" y="1676520"/>
            <a:ext cx="1752480" cy="1752480"/>
          </a:xfrm>
          <a:prstGeom prst="ellipse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Line 10"/>
          <p:cNvSpPr/>
          <p:nvPr/>
        </p:nvSpPr>
        <p:spPr>
          <a:xfrm>
            <a:off x="3962520" y="213372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Line 11"/>
          <p:cNvSpPr/>
          <p:nvPr/>
        </p:nvSpPr>
        <p:spPr>
          <a:xfrm>
            <a:off x="3200400" y="3657600"/>
            <a:ext cx="60948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Line 12"/>
          <p:cNvSpPr/>
          <p:nvPr/>
        </p:nvSpPr>
        <p:spPr>
          <a:xfrm flipV="1">
            <a:off x="5410080" y="3124080"/>
            <a:ext cx="457200" cy="609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Line 13"/>
          <p:cNvSpPr/>
          <p:nvPr/>
        </p:nvSpPr>
        <p:spPr>
          <a:xfrm flipH="1" flipV="1">
            <a:off x="3504960" y="3429000"/>
            <a:ext cx="53316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Line 15"/>
          <p:cNvSpPr/>
          <p:nvPr/>
        </p:nvSpPr>
        <p:spPr>
          <a:xfrm flipH="1">
            <a:off x="3886200" y="251460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Line 16"/>
          <p:cNvSpPr/>
          <p:nvPr/>
        </p:nvSpPr>
        <p:spPr>
          <a:xfrm flipH="1">
            <a:off x="5181480" y="2971800"/>
            <a:ext cx="45720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17"/>
          <p:cNvSpPr/>
          <p:nvPr/>
        </p:nvSpPr>
        <p:spPr>
          <a:xfrm>
            <a:off x="2286000" y="23623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000000"/>
                </a:solidFill>
                <a:latin typeface="Arial"/>
              </a:rPr>
              <a:t>Пацијен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18"/>
          <p:cNvSpPr/>
          <p:nvPr/>
        </p:nvSpPr>
        <p:spPr>
          <a:xfrm>
            <a:off x="6095880" y="22860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000000"/>
                </a:solidFill>
                <a:latin typeface="Arial"/>
              </a:rPr>
              <a:t>Лекар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19"/>
          <p:cNvSpPr/>
          <p:nvPr/>
        </p:nvSpPr>
        <p:spPr>
          <a:xfrm>
            <a:off x="4191120" y="4114800"/>
            <a:ext cx="99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000000"/>
                </a:solidFill>
                <a:latin typeface="Arial"/>
              </a:rPr>
              <a:t>Здравствени сист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20"/>
          <p:cNvSpPr/>
          <p:nvPr/>
        </p:nvSpPr>
        <p:spPr>
          <a:xfrm>
            <a:off x="304920" y="6400800"/>
            <a:ext cx="41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410082"/>
                </a:solidFill>
                <a:uFillTx/>
                <a:latin typeface="Arial"/>
                <a:hlinkClick r:id="rId1"/>
              </a:rPr>
              <a:t>http://www.ophthalmologyweb.com/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" dur="500"/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500"/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" dur="500"/>
                                        <p:tgtEl>
                                          <p:spTgt spid="3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"/>
                                        <p:tgtEl>
                                          <p:spTgt spid="3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" dur="500"/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" dur="500"/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" dur="500"/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" dur="500"/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900" spc="-1" strike="noStrike">
                <a:solidFill>
                  <a:srgbClr val="69666e"/>
                </a:solidFill>
                <a:latin typeface="Calibri"/>
              </a:rPr>
              <a:t>Фактора који доприносе лошој адхеренцији </a:t>
            </a:r>
            <a:endParaRPr b="0" lang="en-US" sz="3900" spc="-1" strike="noStrike">
              <a:solidFill>
                <a:srgbClr val="69666e"/>
              </a:solidFill>
              <a:latin typeface="Calibri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1186920" y="1557360"/>
            <a:ext cx="673740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итуацион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Условљени леко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ацијент је разлог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Здравствени систем и лекар је разлог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300" spc="-1" strike="noStrike">
                <a:solidFill>
                  <a:srgbClr val="69666e"/>
                </a:solidFill>
                <a:latin typeface="Calibri"/>
              </a:rPr>
              <a:t>Ситуациони </a:t>
            </a:r>
            <a:endParaRPr b="0" lang="en-US" sz="4300" spc="-1" strike="noStrike">
              <a:solidFill>
                <a:srgbClr val="69666e"/>
              </a:solidFill>
              <a:latin typeface="Calibri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Промене рутине: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мале свакодневне промене као путовање, одмор, одлазак на прославе, смрт члана породице, појава друге болест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Лоше временске прилике које ометају пацијента да подигне лек из апотек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143000" y="142560"/>
            <a:ext cx="7719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300" spc="-1" strike="noStrike">
                <a:solidFill>
                  <a:srgbClr val="69666e"/>
                </a:solidFill>
                <a:latin typeface="Calibri"/>
              </a:rPr>
              <a:t>Условљени леком</a:t>
            </a:r>
            <a:endParaRPr b="0" lang="en-US" sz="4300" spc="-1" strike="noStrike">
              <a:solidFill>
                <a:srgbClr val="69666e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6960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7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Нежељени ефект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650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9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 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Скоро половина испитаника наводи да је разлог не узимања лекова забринутост због нежењених ефекат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650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rescription Drug Compliance a Significant Challenge for Many Patients. Harris Interactive Web site. March 29, 2005. Available at:</a:t>
            </a:r>
            <a:r>
              <a:rPr b="0" lang="en-US" sz="1000" spc="-1" strike="noStrike" u="sng">
                <a:solidFill>
                  <a:srgbClr val="410082"/>
                </a:solidFill>
                <a:uFillTx/>
                <a:latin typeface="Calibri"/>
                <a:ea typeface="ＭＳ Ｐゴシック"/>
                <a:hlinkClick r:id="rId1"/>
              </a:rPr>
              <a:t>www.harrisinteractive.com/news/allnewsbydate.asp?NewsID=904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 (Accessed July 1, 2008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7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Здравствени или објективни разлоз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650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Н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емогућност да се стисне бочица и укапа лек у око због артритиса,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исувише мала слова на бочицама лекова,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т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ешкоћа са гутањем таблета, набављање лек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7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Превише леков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-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гора комплијан</a:t>
            </a:r>
            <a:r>
              <a:rPr b="0" lang="sr-RS" sz="3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с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650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Међу пацијентима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65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година и старијим,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више од половине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(53%)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узима три и више леков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,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чак једна трећина узима осам или више прописаних леков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650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merican Society of Health-System Pharmacists Web site. Medication Use Among Older Americans. June 2001:5. Available at:</a:t>
            </a:r>
            <a:r>
              <a:rPr b="0" lang="en-US" sz="1000" spc="-1" strike="noStrike" u="sng">
                <a:solidFill>
                  <a:srgbClr val="410082"/>
                </a:solidFill>
                <a:uFillTx/>
                <a:latin typeface="Calibri"/>
                <a:ea typeface="ＭＳ Ｐゴシック"/>
                <a:hlinkClick r:id="rId2"/>
              </a:rPr>
              <a:t>www.ashp.org/s_ashp/docs/files/PR_Over65.pdf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 (Accessed July 2, 2008)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7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Цена лека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: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најмање један од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10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Американаца наводи цену лека као разлог не узимања терапиј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650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Kennedy J, Morgan S. A cross-national study of prescription nonadherence due to cost: data from the Joint Canada-United States Survey of Health. Clin Ther 2006 Aug;28(8): 1217-24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650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650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300" spc="-1" strike="noStrike">
                <a:solidFill>
                  <a:srgbClr val="69666e"/>
                </a:solidFill>
                <a:latin typeface="Calibri"/>
              </a:rPr>
              <a:t>Разлози не узимања лекова</a:t>
            </a:r>
            <a:endParaRPr b="0" lang="en-US" sz="4300" spc="-1" strike="noStrike">
              <a:solidFill>
                <a:srgbClr val="69666e"/>
              </a:solidFill>
              <a:latin typeface="Calibri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Општи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Пацијент (вољни разлози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Пацијент (невољни разлози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Лека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Болест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300" spc="-1" strike="noStrike">
                <a:solidFill>
                  <a:srgbClr val="69666e"/>
                </a:solidFill>
                <a:latin typeface="Calibri"/>
              </a:rPr>
              <a:t>Општи предиктори</a:t>
            </a:r>
            <a:endParaRPr b="0" lang="en-US" sz="4300" spc="-1" strike="noStrike">
              <a:solidFill>
                <a:srgbClr val="69666e"/>
              </a:solidFill>
              <a:latin typeface="Calibri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Дужина лечењ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Сложеност терапијског поступ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Одсуство подршк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300" spc="-1" strike="noStrike">
                <a:solidFill>
                  <a:srgbClr val="69666e"/>
                </a:solidFill>
                <a:latin typeface="Calibri"/>
              </a:rPr>
              <a:t>Проблем пацијент</a:t>
            </a:r>
            <a:endParaRPr b="0" lang="en-US" sz="4300" spc="-1" strike="noStrike">
              <a:solidFill>
                <a:srgbClr val="69666e"/>
              </a:solidFill>
              <a:latin typeface="Calibri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Пацијенти се често устручавају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или нису у стању да питају лекар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Пацијенти се не слажу са мишљењем лекар или негирају своје здравствене проблеме нарочито у случају у почетку асимптоматских болести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Понекад  је тешко убедити пацијента да је неопходан доживотан третман неке болести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Пацијент не верује да је третман ефикасан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 предузима самостално лечење или самоиницијативно прекида терапију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300" spc="-1" strike="noStrike">
                <a:solidFill>
                  <a:srgbClr val="69666e"/>
                </a:solidFill>
                <a:latin typeface="Calibri"/>
              </a:rPr>
              <a:t>Пацијент-вољни разлози</a:t>
            </a:r>
            <a:endParaRPr b="0" lang="en-US" sz="4300" spc="-1" strike="noStrike">
              <a:solidFill>
                <a:srgbClr val="69666e"/>
              </a:solidFill>
              <a:latin typeface="Calibri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500" spc="-1" strike="noStrike">
                <a:solidFill>
                  <a:srgbClr val="000000"/>
                </a:solidFill>
                <a:latin typeface="Calibri"/>
              </a:rPr>
              <a:t>Забрнутст око нежељених ефеката</a:t>
            </a:r>
            <a:r>
              <a:rPr b="0" lang="sr-Latn-C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sr-Latn-CS" sz="2500" spc="-1" strike="noStrike">
                <a:solidFill>
                  <a:srgbClr val="000000"/>
                </a:solidFill>
                <a:latin typeface="Calibri"/>
              </a:rPr>
              <a:t>третман </a:t>
            </a:r>
            <a:r>
              <a:rPr b="0" lang="sr-RS" sz="2500" spc="-1" strike="noStrike">
                <a:solidFill>
                  <a:srgbClr val="000000"/>
                </a:solidFill>
                <a:latin typeface="Calibri"/>
              </a:rPr>
              <a:t>се </a:t>
            </a:r>
            <a:r>
              <a:rPr b="0" lang="sr-Latn-CS" sz="2500" spc="-1" strike="noStrike">
                <a:solidFill>
                  <a:srgbClr val="000000"/>
                </a:solidFill>
                <a:latin typeface="Calibri"/>
              </a:rPr>
              <a:t>може </a:t>
            </a:r>
            <a:r>
              <a:rPr b="0" lang="sr-RS" sz="2500" spc="-1" strike="noStrike">
                <a:solidFill>
                  <a:srgbClr val="000000"/>
                </a:solidFill>
                <a:latin typeface="Calibri"/>
              </a:rPr>
              <a:t>доживљавати горе од саме болести, лек лошег укуса или мириса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500" spc="-1" strike="noStrike">
                <a:solidFill>
                  <a:srgbClr val="000000"/>
                </a:solidFill>
                <a:latin typeface="Calibri"/>
              </a:rPr>
              <a:t>Рестрикције условљене терапијом (избегавање сунца, алкохола или млечних производа током терапије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500" spc="-1" strike="noStrike">
                <a:solidFill>
                  <a:srgbClr val="000000"/>
                </a:solidFill>
                <a:latin typeface="Calibri"/>
              </a:rPr>
              <a:t>Слаба перцепција ефикасности лечења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500" spc="-1" strike="noStrike">
                <a:solidFill>
                  <a:srgbClr val="000000"/>
                </a:solidFill>
                <a:latin typeface="Calibri"/>
              </a:rPr>
              <a:t>Стигма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500" spc="-1" strike="noStrike">
                <a:solidFill>
                  <a:srgbClr val="000000"/>
                </a:solidFill>
                <a:latin typeface="Calibri"/>
              </a:rPr>
              <a:t>Компликовани терапијски режими, ремећење дневних активности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500" spc="-1" strike="noStrike">
                <a:solidFill>
                  <a:srgbClr val="000000"/>
                </a:solidFill>
                <a:latin typeface="Calibri"/>
              </a:rPr>
              <a:t>Цена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500" spc="-1" strike="noStrike">
                <a:solidFill>
                  <a:srgbClr val="000000"/>
                </a:solidFill>
                <a:latin typeface="Calibri"/>
              </a:rPr>
              <a:t>Доступност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500" spc="-1" strike="noStrike">
                <a:solidFill>
                  <a:srgbClr val="000000"/>
                </a:solidFill>
                <a:latin typeface="Calibri"/>
              </a:rPr>
              <a:t>Брига око зависности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300" spc="-1" strike="noStrike">
                <a:solidFill>
                  <a:srgbClr val="69666e"/>
                </a:solidFill>
                <a:latin typeface="Calibri"/>
              </a:rPr>
              <a:t>Пацијент невољни разлози</a:t>
            </a:r>
            <a:endParaRPr b="0" lang="en-US" sz="4300" spc="-1" strike="noStrike">
              <a:solidFill>
                <a:srgbClr val="69666e"/>
              </a:solidFill>
              <a:latin typeface="Calibri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аборавнос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Апатични пацијент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Негирање болести и њеног значај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Спољни фактор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Неразумевање или погрешно тумач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ње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упутств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Забринутост око трошкова лечењ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300" spc="-1" strike="noStrike" u="sng">
                <a:solidFill>
                  <a:srgbClr val="69666e"/>
                </a:solidFill>
                <a:uFillTx/>
                <a:latin typeface="Calibri"/>
              </a:rPr>
              <a:t>Лекар је проблем</a:t>
            </a:r>
            <a:endParaRPr b="0" lang="en-US" sz="4300" spc="-1" strike="noStrike">
              <a:solidFill>
                <a:srgbClr val="69666e"/>
              </a:solidFill>
              <a:latin typeface="Calibri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Лош однос између лекара и пацијен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Одсуство емпатиј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Непружање информација/лоша комуникациј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Неадекватно праћење болест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300" spc="-1" strike="noStrike">
                <a:solidFill>
                  <a:srgbClr val="69666e"/>
                </a:solidFill>
                <a:latin typeface="Calibri"/>
              </a:rPr>
              <a:t>Проблеми </a:t>
            </a:r>
            <a:endParaRPr b="0" lang="en-US" sz="4300" spc="-1" strike="noStrike">
              <a:solidFill>
                <a:srgbClr val="69666e"/>
              </a:solidFill>
              <a:latin typeface="Calibri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Велики број пацијенат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Скраћивање времена које посвећујемо пацијент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Лоше комуникације између лекара и пацијен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300" spc="-1" strike="noStrike">
                <a:solidFill>
                  <a:srgbClr val="69666e"/>
                </a:solidFill>
                <a:latin typeface="Calibri"/>
              </a:rPr>
              <a:t>Болести </a:t>
            </a:r>
            <a:endParaRPr b="0" lang="en-US" sz="4300" spc="-1" strike="noStrike">
              <a:solidFill>
                <a:srgbClr val="69666e"/>
              </a:solidFill>
              <a:latin typeface="Calibri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Болести које угрожавају живо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Депресија и узнемиренос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Психозе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Когнитивна оштећењ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115640" y="404640"/>
            <a:ext cx="7467480" cy="6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900" spc="-1" strike="noStrike">
                <a:solidFill>
                  <a:srgbClr val="69666e"/>
                </a:solidFill>
                <a:latin typeface="Calibri"/>
              </a:rPr>
              <a:t>Резултат лоше адхеренције</a:t>
            </a:r>
            <a:endParaRPr b="0" lang="en-US" sz="3900" spc="-1" strike="noStrike">
              <a:solidFill>
                <a:srgbClr val="69666e"/>
              </a:solidFill>
              <a:latin typeface="Calibri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1042920" y="1371600"/>
            <a:ext cx="733896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Већа стопа морбидитета и морталитета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Повећање трошкова лечења и већи степен незадовољства пацијента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Већа учесталост компликација, броја непотребних дијагностичких тестова, контролних прегледа и интервенција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Лошији квалитет живота пацијента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Већа цена лечења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Дугорочно лоша адхеренција поред медицинског представља и социјално економски проблем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TextBox 3"/>
          <p:cNvSpPr/>
          <p:nvPr/>
        </p:nvSpPr>
        <p:spPr>
          <a:xfrm>
            <a:off x="1116000" y="5732640"/>
            <a:ext cx="7467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Zhang NJ, Terry A, McHorney CA. Impact of health literacy on medication adherence: a systematic review and meta-analysis. Ann Pharmacother 2014;48:741–751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300" spc="-1" strike="noStrike">
                <a:solidFill>
                  <a:srgbClr val="69666e"/>
                </a:solidFill>
                <a:latin typeface="Calibri"/>
              </a:rPr>
              <a:t>Адхеренција код старих</a:t>
            </a:r>
            <a:endParaRPr b="0" lang="en-US" sz="4300" spc="-1" strike="noStrike">
              <a:solidFill>
                <a:srgbClr val="69666e"/>
              </a:solidFill>
              <a:latin typeface="Calibri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279720">
              <a:lnSpc>
                <a:spcPct val="9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700" spc="-1" strike="noStrike">
                <a:solidFill>
                  <a:srgbClr val="000000"/>
                </a:solidFill>
                <a:latin typeface="Calibri"/>
              </a:rPr>
              <a:t>Старење је праћено честим физичким и менталним сметњама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RS" sz="2700" spc="-1" strike="noStrike">
                <a:solidFill>
                  <a:srgbClr val="000000"/>
                </a:solidFill>
                <a:latin typeface="Calibri"/>
              </a:rPr>
              <a:t>употребом више лекова и повећаним ризиком од интер-реакција међу лековима као и нежељених ефекатима лекова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61080" indent="-279720">
              <a:lnSpc>
                <a:spcPct val="9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700" spc="-1" strike="noStrike">
                <a:solidFill>
                  <a:srgbClr val="000000"/>
                </a:solidFill>
                <a:latin typeface="Calibri"/>
              </a:rPr>
              <a:t>Дуплирање доза услед заборавности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61080" indent="-279720">
              <a:lnSpc>
                <a:spcPct val="9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700" spc="-1" strike="noStrike">
                <a:solidFill>
                  <a:srgbClr val="000000"/>
                </a:solidFill>
                <a:latin typeface="Calibri"/>
              </a:rPr>
              <a:t>Лекар мора поједноставити лечење коришћењем једног лека за два циља, смањивањем доза што доприноси побољшању адхеренције и смањује ризик од интереакције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61080" indent="-279720">
              <a:lnSpc>
                <a:spcPct val="9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700" spc="-1" strike="noStrike">
                <a:solidFill>
                  <a:srgbClr val="000000"/>
                </a:solidFill>
                <a:latin typeface="Calibri"/>
              </a:rPr>
              <a:t>Старење компромитује функцију многих органа па је потребно смањити дозу лекова како би се избегли нежењени ефекти лекова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900" spc="-1" strike="noStrike">
                <a:solidFill>
                  <a:srgbClr val="69666e"/>
                </a:solidFill>
                <a:latin typeface="Calibri"/>
              </a:rPr>
              <a:t>Начини побољшања комплијансе </a:t>
            </a:r>
            <a:endParaRPr b="0" lang="en-US" sz="3900" spc="-1" strike="noStrike">
              <a:solidFill>
                <a:srgbClr val="69666e"/>
              </a:solidFill>
              <a:latin typeface="Calibri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Побољшање едукације пацијента о природи болести и значају праћења терапијског протокола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Поједностављивање дозирања, односно коришћење кад год је могуће фиксних комбинација лекова и депо препарат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Давање прецизних инструкција о правилном узимању лека дозирању, начину и времену узимањ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Обезбедити за пацијента писану инструкцију о правилном уношењу лека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роцењује се да 40 до 80% пружених медицинских информација пацијенти забораве одмах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US" sz="1700" spc="-1" strike="noStrike">
                <a:solidFill>
                  <a:srgbClr val="000000"/>
                </a:solidFill>
                <a:latin typeface="Calibri"/>
              </a:rPr>
              <a:t>Kessels, RP Patients’ memory for medical information.. J R Soc Med. (2003).96 219–22</a:t>
            </a:r>
            <a:r>
              <a:rPr b="0" i="1" lang="sr-CS" sz="17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900" spc="-1" strike="noStrike">
                <a:solidFill>
                  <a:srgbClr val="69666e"/>
                </a:solidFill>
                <a:latin typeface="Calibri"/>
              </a:rPr>
              <a:t>Начини побољшања комплијансе </a:t>
            </a:r>
            <a:endParaRPr b="0" lang="en-US" sz="3900" spc="-1" strike="noStrike">
              <a:solidFill>
                <a:srgbClr val="69666e"/>
              </a:solidFill>
              <a:latin typeface="Calibri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Тражите од пацијента да вам понови оно о чему сте дискутовали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Континуирано реинформисати пацијента зашто је узимање лекова важно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Користити графиконе, модел или слике које објашњавају природу и озбиљност болести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Кад год је могуће упутити пацијента на групе за подршку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900" spc="-1" strike="noStrike">
                <a:solidFill>
                  <a:srgbClr val="69666e"/>
                </a:solidFill>
                <a:latin typeface="Calibri"/>
              </a:rPr>
              <a:t>Начини побољшања комплијансе </a:t>
            </a:r>
            <a:endParaRPr b="0" lang="en-US" sz="3900" spc="-1" strike="noStrike">
              <a:solidFill>
                <a:srgbClr val="69666e"/>
              </a:solidFill>
              <a:latin typeface="Calibri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7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5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Водите рачуна да је пацијент разумео вас и да сте ви разумели њега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7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5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Немојте једноставно питати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: </a:t>
            </a:r>
            <a:r>
              <a:rPr b="0" lang="sr-RS" sz="25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да ли узимате лекове како су прописани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?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7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5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Прво питајте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, </a:t>
            </a:r>
            <a:r>
              <a:rPr b="0" lang="sr-RS" sz="25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које лекове узимате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?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7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5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Када и колико често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?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7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5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Тражите да вам демонстрирају њихов метод (бочица капи,  инхалатори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7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5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sr-RS" sz="25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Уколико уочите недостатке трудите се да им поправите технику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7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5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Пацијенти који пропуштају заказане контроле имају гору комплијансу у односу на оне који редовно долазе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7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500" spc="-1" strike="noStrike">
                <a:solidFill>
                  <a:srgbClr val="000000"/>
                </a:solidFill>
                <a:latin typeface="Calibri"/>
              </a:rPr>
              <a:t>Слање подсетника (телефонски позив</a:t>
            </a:r>
            <a:r>
              <a:rPr b="0" lang="sr-RS" sz="25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, смс, писмом, електронским путем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900" spc="-1" strike="noStrike">
                <a:solidFill>
                  <a:srgbClr val="69666e"/>
                </a:solidFill>
                <a:latin typeface="Calibri"/>
              </a:rPr>
              <a:t>Начини побољшања комплијансе </a:t>
            </a:r>
            <a:endParaRPr b="0" lang="en-US" sz="3900" spc="-1" strike="noStrike">
              <a:solidFill>
                <a:srgbClr val="69666e"/>
              </a:solidFill>
              <a:latin typeface="Calibri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 u="sng">
                <a:solidFill>
                  <a:srgbClr val="000000"/>
                </a:solidFill>
                <a:uFillTx/>
                <a:latin typeface="Calibri"/>
              </a:rPr>
              <a:t>Једноставно дозирањ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Важно је консултовати се са пацијентом о дозирању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како се узимање лекова уклапа у њихов животни стил и дневне активност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Кад год је могуће повезати узимање лекова са дневним активностим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Активно укључити чланове породица, социјалне раднике, наставник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300" spc="-1" strike="noStrike" u="sng">
                <a:solidFill>
                  <a:srgbClr val="69666e"/>
                </a:solidFill>
                <a:uFillTx/>
                <a:latin typeface="Calibri"/>
              </a:rPr>
              <a:t>Опрез </a:t>
            </a:r>
            <a:endParaRPr b="0" lang="en-US" sz="4300" spc="-1" strike="noStrike">
              <a:solidFill>
                <a:srgbClr val="69666e"/>
              </a:solidFill>
              <a:latin typeface="Calibri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27972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Лоша комплијанса не би смела да се помеша са одсуством ефикасности ле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61080" indent="-27972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Резултат је увођење нових леков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61080" indent="-27972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Непотребних допунских дијагностичких тестов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61080" indent="-27972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Некада чак и непотребне хирушке интервенциј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61080" indent="-27972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Повећава цену лечења и умањује квалитет живота пацијена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61080" indent="-27972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61080" indent="-27972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61080" indent="-27972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69666e"/>
                </a:solidFill>
                <a:latin typeface="Calibri"/>
              </a:rPr>
              <a:t>Савети за побољшања комплијансе </a:t>
            </a:r>
            <a:endParaRPr b="0" lang="en-US" sz="3200" spc="-1" strike="noStrike">
              <a:solidFill>
                <a:srgbClr val="69666e"/>
              </a:solidFill>
              <a:latin typeface="Calibri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1434960" y="1447560"/>
            <a:ext cx="4708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Кутије са више одељака за сваки дан у недељи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Контејнери са електронским поклопцем који се оглашавају светлом или звуком и бележе приступ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Меморијска помагала за пацијенте : подсетник картице, аларме на телефонима, сатовима, вођење дневника терапије, везивање терапије за дневне активности као што су прање зуба, омиљену ТВ емисију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Електронски мониторинг издатих лекова од стране </a:t>
            </a:r>
            <a:r>
              <a:rPr b="0" lang="sr-Latn-CS" sz="2200" spc="-1" strike="noStrike">
                <a:solidFill>
                  <a:srgbClr val="000000"/>
                </a:solidFill>
                <a:latin typeface="Calibri"/>
              </a:rPr>
              <a:t>фармацеут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sr-Latn-CS" sz="2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05" name="Picture 2" descr="http://p.lefux.com/61/20100713/A1615000BV/pill-case-box-holder-7days-1-Gallay.jpg"/>
          <p:cNvPicPr/>
          <p:nvPr/>
        </p:nvPicPr>
        <p:blipFill>
          <a:blip r:embed="rId1"/>
          <a:srcRect l="3807" t="17135" r="0" b="25765"/>
          <a:stretch/>
        </p:blipFill>
        <p:spPr>
          <a:xfrm>
            <a:off x="6248520" y="2000160"/>
            <a:ext cx="2895480" cy="17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000080" y="274320"/>
            <a:ext cx="793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69666e"/>
                </a:solidFill>
                <a:latin typeface="Calibri"/>
              </a:rPr>
              <a:t>Припрема пацијента за дијагностичке и лабораторијске процедуре</a:t>
            </a:r>
            <a:endParaRPr b="0" lang="en-US" sz="3200" spc="-1" strike="noStrike">
              <a:solidFill>
                <a:srgbClr val="69666e"/>
              </a:solidFill>
              <a:latin typeface="Calibri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Први корак припреме пацијента подразумева пружање информација и едукацију пацијент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Информисање пацијента или старатеља прати исти образац информисања без обзира на место и тип испитивањ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Специфичн</a:t>
            </a: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ост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припреме 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пацијент</a:t>
            </a: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завис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од локације, </a:t>
            </a: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врсте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и </a:t>
            </a: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степена инвазивности дијагностичке и терапијске процедуре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1434960" y="895320"/>
            <a:ext cx="7499520" cy="539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Комуникација представља сложен процес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и захтева индивидуално прилагођавањ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Старија популација је хетерогенија од млађ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Различита животна искуств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и културне разлике,  утичу на перцепцију болести,  способност комуникације и спремност на прихватање предложених терапијских и дијагностичких поступа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 txBox="1"/>
          <p:nvPr/>
        </p:nvSpPr>
        <p:spPr>
          <a:xfrm>
            <a:off x="785520" y="285840"/>
            <a:ext cx="8148600" cy="657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Која је сврха теста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Детаљан опис поступка, укључујући место и методу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Објаснити да ли ће процедура бити праћена болом или нелагодношћу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У случају забринутости у вези бола током поступка предложити технику дисања или визуелизације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За педијатријске пацијенте користити играчке  за приказивање поступк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Уколико је потребно, употреба седатива или анестетика у циљу ублаживања анксиозности и очекиваног бола током процедуре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Водити рачуна о културолошким и друштвеним разликама (стидљивост) и обезбедити психолошку подршку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 txBox="1"/>
          <p:nvPr/>
        </p:nvSpPr>
        <p:spPr>
          <a:xfrm>
            <a:off x="928800" y="285840"/>
            <a:ext cx="8215200" cy="657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Дати упутство у вези са исхраном, узимањем течности, узимањем лекова и активностима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Питати за коришћену терапију, као и друге процедуре које могу утицати на резултате теста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Објаснити пацијенту зашто је важно да се строго придржава упутства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Водити рачуна о анксиозности у вези са резултатима теста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Водити рачуна како предложене дијагностичке процедуре утичу на трудноћу и дојење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Обавестити пацијента какао предложене дијагностичке процедуре утичу на психомоторне активности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Пружити охрабрујуће окружење за пацијента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Охрабрите пацијента да постављају питања и своје бриге вербализује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 txBox="1"/>
          <p:nvPr/>
        </p:nvSpPr>
        <p:spPr>
          <a:xfrm>
            <a:off x="1142640" y="214200"/>
            <a:ext cx="7791480" cy="642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700" spc="-1" strike="noStrike">
                <a:solidFill>
                  <a:srgbClr val="000000"/>
                </a:solidFill>
                <a:latin typeface="Calibri"/>
              </a:rPr>
              <a:t>Информишите се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да ли пацијент има алергију на дезинфицијенс, анестетик, контраст</a:t>
            </a:r>
            <a:r>
              <a:rPr b="0" lang="sr-RS" sz="2700" spc="-1" strike="noStrike">
                <a:solidFill>
                  <a:srgbClr val="000000"/>
                </a:solidFill>
                <a:latin typeface="Calibri"/>
              </a:rPr>
              <a:t>ни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материјала, лекове</a:t>
            </a:r>
            <a:r>
              <a:rPr b="0" lang="sr-RS" sz="27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катетер, или подве</a:t>
            </a:r>
            <a:r>
              <a:rPr b="0" lang="sr-RS" sz="2700" spc="-1" strike="noStrike">
                <a:solidFill>
                  <a:srgbClr val="000000"/>
                </a:solidFill>
                <a:latin typeface="Calibri"/>
              </a:rPr>
              <a:t>з ако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ће се користити у поступку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700" spc="-1" strike="noStrike">
                <a:solidFill>
                  <a:srgbClr val="000000"/>
                </a:solidFill>
                <a:latin typeface="Calibri"/>
              </a:rPr>
              <a:t>Уколико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пацијент </a:t>
            </a:r>
            <a:r>
              <a:rPr b="0" lang="sr-RS" sz="2700" spc="-1" strike="noStrike">
                <a:solidFill>
                  <a:srgbClr val="000000"/>
                </a:solidFill>
                <a:latin typeface="Calibri"/>
              </a:rPr>
              <a:t>спава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700" spc="-1" strike="noStrike">
                <a:solidFill>
                  <a:srgbClr val="000000"/>
                </a:solidFill>
                <a:latin typeface="Calibri"/>
              </a:rPr>
              <a:t>треба га лагано пробудити 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и дозволи</a:t>
            </a:r>
            <a:r>
              <a:rPr b="0" lang="sr-RS" sz="2700" spc="-1" strike="noStrike">
                <a:solidFill>
                  <a:srgbClr val="000000"/>
                </a:solidFill>
                <a:latin typeface="Calibri"/>
              </a:rPr>
              <a:t>ти му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могућност да постане оријентисана пре </a:t>
            </a:r>
            <a:r>
              <a:rPr b="0" lang="sr-RS" sz="2700" spc="-1" strike="noStrike">
                <a:solidFill>
                  <a:srgbClr val="000000"/>
                </a:solidFill>
                <a:latin typeface="Calibri"/>
              </a:rPr>
              <a:t>спровођења дијагностичке процедуре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700" spc="-1" strike="noStrike">
                <a:solidFill>
                  <a:srgbClr val="000000"/>
                </a:solidFill>
                <a:latin typeface="Calibri"/>
              </a:rPr>
              <a:t>Пацијенте у к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оми или несвесн</a:t>
            </a:r>
            <a:r>
              <a:rPr b="0" lang="sr-RS" sz="2700" spc="-1" strike="noStrike">
                <a:solidFill>
                  <a:srgbClr val="000000"/>
                </a:solidFill>
                <a:latin typeface="Calibri"/>
              </a:rPr>
              <a:t>е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пацијент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е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700" spc="-1" strike="noStrike">
                <a:solidFill>
                  <a:srgbClr val="000000"/>
                </a:solidFill>
                <a:latin typeface="Calibri"/>
              </a:rPr>
              <a:t>пажљиво третирати јер 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иако нису у стању да одговоре, они могу бити у стању да чују и разумеју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Предвидите случајеве у којима пацијент</a:t>
            </a:r>
            <a:r>
              <a:rPr b="0" lang="sr-RS" sz="2700" spc="-1" strike="noStrike">
                <a:solidFill>
                  <a:srgbClr val="000000"/>
                </a:solidFill>
                <a:latin typeface="Calibri"/>
              </a:rPr>
              <a:t>ова 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сарадња може бити проблем</a:t>
            </a:r>
            <a:r>
              <a:rPr b="0" lang="sr-RS" sz="2700" spc="-1" strike="noStrike">
                <a:solidFill>
                  <a:srgbClr val="000000"/>
                </a:solidFill>
                <a:latin typeface="Calibri"/>
              </a:rPr>
              <a:t> и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7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нгаж</a:t>
            </a:r>
            <a:r>
              <a:rPr b="0" lang="sr-RS" sz="2700" spc="-1" strike="noStrike">
                <a:solidFill>
                  <a:srgbClr val="000000"/>
                </a:solidFill>
                <a:latin typeface="Calibri"/>
              </a:rPr>
              <a:t>овати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другу особу да помогне</a:t>
            </a:r>
            <a:r>
              <a:rPr b="0" lang="sr-R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како би се обезбедило сигурно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 и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квалитетно</a:t>
            </a:r>
            <a:r>
              <a:rPr b="0" lang="sr-RS" sz="2700" spc="-1" strike="noStrike">
                <a:solidFill>
                  <a:srgbClr val="000000"/>
                </a:solidFill>
                <a:latin typeface="Calibri"/>
              </a:rPr>
              <a:t> спровођење дијагностичког поступка 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за све укључене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520" cy="18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69666e"/>
                </a:solidFill>
                <a:latin typeface="Calibri"/>
              </a:rPr>
              <a:t>Припрема пацијента за извођење хируршке интервенције и узимање информисаног пристанка </a:t>
            </a:r>
            <a:endParaRPr b="0" lang="en-US" sz="3200" spc="-1" strike="noStrike">
              <a:solidFill>
                <a:srgbClr val="69666e"/>
              </a:solidFill>
              <a:latin typeface="Calibri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1434960" y="2492280"/>
            <a:ext cx="7499520" cy="375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реоперативну процену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реоперативни закључа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реоперативну припрем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Након одговарајућег информисања,  потписивање информисаног пристанка пацијен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69666e"/>
                </a:solidFill>
                <a:latin typeface="Calibri"/>
              </a:rPr>
              <a:t>Разлози заборављања медицинских информација и неспоразума</a:t>
            </a:r>
            <a:endParaRPr b="0" lang="en-US" sz="3600" spc="-1" strike="noStrike">
              <a:solidFill>
                <a:srgbClr val="69666e"/>
              </a:solidFill>
              <a:latin typeface="Calibri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1476000" y="2349000"/>
            <a:ext cx="7458120" cy="389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Лекар користи компликовану медицинску терминалогиј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Начин давања информација усмено/у писаној форм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Низак ниво образовања пацијента,  специфична очекивања и предрасуде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300" spc="-1" strike="noStrike">
                <a:solidFill>
                  <a:srgbClr val="69666e"/>
                </a:solidFill>
                <a:latin typeface="Calibri"/>
              </a:rPr>
              <a:t>Информације за пацијента</a:t>
            </a:r>
            <a:endParaRPr b="0" lang="en-US" sz="4300" spc="-1" strike="noStrike">
              <a:solidFill>
                <a:srgbClr val="69666e"/>
              </a:solidFill>
              <a:latin typeface="Calibri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мајући у виду уочене границе краткотрајног памћења као и забринутост и узнемиреност који могу отежати разумевање датих инструкција важно је да лекар пажљиво размотри начин пружања информација у овом период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Оптималним се сматра комбинација вербалне, писане и визуелне медицинске информације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300" spc="-1" strike="noStrike">
                <a:solidFill>
                  <a:srgbClr val="69666e"/>
                </a:solidFill>
                <a:latin typeface="Calibri"/>
              </a:rPr>
              <a:t>Информације за пацијента</a:t>
            </a:r>
            <a:endParaRPr b="0" lang="en-US" sz="4300" spc="-1" strike="noStrike">
              <a:solidFill>
                <a:srgbClr val="69666e"/>
              </a:solidFill>
              <a:latin typeface="Calibri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Опште информације везане за врсту планиране хируршке интервенциј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Уколико постоје различите методе објаснити зашто се баш тај тип интервенције препоручује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Уколико постоје друге могућности лечења дати пацијенту информацију о њим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знети предности и резултате препоручене процедур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300" spc="-1" strike="noStrike">
                <a:solidFill>
                  <a:srgbClr val="69666e"/>
                </a:solidFill>
                <a:latin typeface="Calibri"/>
              </a:rPr>
              <a:t>Информације за пацијента</a:t>
            </a:r>
            <a:endParaRPr b="0" lang="en-US" sz="4300" spc="-1" strike="noStrike">
              <a:solidFill>
                <a:srgbClr val="69666e"/>
              </a:solidFill>
              <a:latin typeface="Calibri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Искуство хирурга у обављању препоручене хируршке интервенције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Врста анестезије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Узимање лекова у преоперативном периоду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Операција  у дневној болници или је потребно лежање у хоспиталним условима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Ризицима и могуће компликације хируршке интервенције и анестезије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Присуство бола и могућност његове контроле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300" spc="-1" strike="noStrike">
                <a:solidFill>
                  <a:srgbClr val="69666e"/>
                </a:solidFill>
                <a:latin typeface="Calibri"/>
              </a:rPr>
              <a:t>Информације за пацијента</a:t>
            </a:r>
            <a:endParaRPr b="0" lang="en-US" sz="4300" spc="-1" strike="noStrike">
              <a:solidFill>
                <a:srgbClr val="69666e"/>
              </a:solidFill>
              <a:latin typeface="Calibri"/>
            </a:endParaRPr>
          </a:p>
        </p:txBody>
      </p:sp>
      <p:sp>
        <p:nvSpPr>
          <p:cNvPr id="422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Шта се очекује у постоперативном току, дужина хоспитализације, могуће компликације, нега, дужина опоравка, терапијски и хигијенско дијететским режим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Стање радна способност, трудноћа, дојење, употребе других лекова и суплемената након обављене хируршке интервенције 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Ризици који проистичу из одлагања или одустајња од хируршке интервенције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Саветовање пацијента уколико жели мишљење другог лекара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Друга питања везана за операцију или уколико је потребно додатна обавештења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300" spc="-1" strike="noStrike">
                <a:solidFill>
                  <a:srgbClr val="69666e"/>
                </a:solidFill>
                <a:latin typeface="Calibri"/>
              </a:rPr>
              <a:t>Информисани пристанак</a:t>
            </a:r>
            <a:endParaRPr b="0" lang="en-US" sz="4300" spc="-1" strike="noStrike">
              <a:solidFill>
                <a:srgbClr val="69666e"/>
              </a:solidFill>
              <a:latin typeface="Calibri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У циљу избегавања неспоразума након обављања детаљног разговора са пацијентом, пацијенту дати у писаној форми горе наведене информације како би се пацијент додатно реинформисао у случају потребе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Уколико пацијент има додатна питања упутити га на додатни извор информација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Проврити да ли је пацијент у потпуности разуме поред корисности и ризике које са собом носи препоручена хируршка интервенција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Тек након тога пацијент потписује информисани пристанак за предложену хируршку интервенцију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 txBox="1"/>
          <p:nvPr/>
        </p:nvSpPr>
        <p:spPr>
          <a:xfrm>
            <a:off x="1357200" y="500040"/>
            <a:ext cx="7577280" cy="614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Да ли је могуће са мало времена које имамо постићи добру комуникацију са пацијентом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Потребно је комуницирати ˝паметније 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Прилагодити комуникацију индивидуално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Стално унапређивање вештине комуникације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69666e"/>
                </a:solidFill>
                <a:latin typeface="Calibri"/>
              </a:rPr>
              <a:t>Пример 1: инструкције за пацијента</a:t>
            </a:r>
            <a:br>
              <a:rPr sz="3600"/>
            </a:br>
            <a:r>
              <a:rPr b="0" lang="sr-RS" sz="3600" spc="-1" strike="noStrike">
                <a:solidFill>
                  <a:srgbClr val="69666e"/>
                </a:solidFill>
                <a:latin typeface="Calibri"/>
              </a:rPr>
              <a:t>Ехокардиограм </a:t>
            </a:r>
            <a:endParaRPr b="0" lang="en-US" sz="3600" spc="-1" strike="noStrike">
              <a:solidFill>
                <a:srgbClr val="69666e"/>
              </a:solidFill>
              <a:latin typeface="Calibri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500" spc="-1" strike="noStrike">
                <a:solidFill>
                  <a:srgbClr val="000000"/>
                </a:solidFill>
                <a:latin typeface="Calibri"/>
              </a:rPr>
              <a:t>Припрема за преглед: не постоји специфична припрема за овај преглед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500" spc="-1" strike="noStrike">
                <a:solidFill>
                  <a:srgbClr val="000000"/>
                </a:solidFill>
                <a:latin typeface="Calibri"/>
              </a:rPr>
              <a:t>Преглед се изводи ултразвучним апаратом и безболана је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500" spc="-1" strike="noStrike">
                <a:solidFill>
                  <a:srgbClr val="000000"/>
                </a:solidFill>
                <a:latin typeface="Calibri"/>
              </a:rPr>
              <a:t>У току прегледа бићете замољени да се свучете од струка навише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500" spc="-1" strike="noStrike">
                <a:solidFill>
                  <a:srgbClr val="000000"/>
                </a:solidFill>
                <a:latin typeface="Calibri"/>
              </a:rPr>
              <a:t>ЕКГ монитор ће се користити током прегледа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500" spc="-1" strike="noStrike">
                <a:solidFill>
                  <a:srgbClr val="000000"/>
                </a:solidFill>
                <a:latin typeface="Calibri"/>
              </a:rPr>
              <a:t>Преглед ће трајати око 30 минута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500" spc="-1" strike="noStrike">
                <a:solidFill>
                  <a:srgbClr val="000000"/>
                </a:solidFill>
                <a:latin typeface="Calibri"/>
              </a:rPr>
              <a:t>Након прегледа резултате ће те добити од свог лекара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500" spc="-1" strike="noStrike">
                <a:solidFill>
                  <a:srgbClr val="000000"/>
                </a:solidFill>
                <a:latin typeface="Calibri"/>
              </a:rPr>
              <a:t>Можете наставити све нормалне активности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500" spc="-1" strike="noStrike">
                <a:solidFill>
                  <a:srgbClr val="000000"/>
                </a:solidFill>
                <a:latin typeface="Calibri"/>
              </a:rPr>
              <a:t>Ако имате додатних питања у вези прегледа слободно питајте вашег лекара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900" spc="-1" strike="noStrike">
                <a:solidFill>
                  <a:srgbClr val="69666e"/>
                </a:solidFill>
                <a:latin typeface="Calibri"/>
              </a:rPr>
              <a:t>Пример 2: инструкција за пацијента</a:t>
            </a:r>
            <a:endParaRPr b="0" lang="en-US" sz="3900" spc="-1" strike="noStrike">
              <a:solidFill>
                <a:srgbClr val="69666e"/>
              </a:solidFill>
              <a:latin typeface="Calibri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Ваш крвни притисак је 1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45</a:t>
            </a: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/90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Ваш циљни притисак је мање од 1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20</a:t>
            </a: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/8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Дијета и физичка активност су кључ успешне контроле хипертензије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Ваша терапија је: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Enalapril</a:t>
            </a:r>
            <a:r>
              <a:rPr b="0" lang="sr-Latn-RS" sz="3000" spc="-1" strike="noStrike">
                <a:solidFill>
                  <a:srgbClr val="000000"/>
                </a:solidFill>
                <a:latin typeface="Calibri"/>
              </a:rPr>
              <a:t> 10 mg </a:t>
            </a: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једна таблета дневно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Узмите ваш нови лек чим устанете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Шетајте ујутру и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ли</a:t>
            </a: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 поподне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Избаците алкохол и смањите унос соли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Дођите на контролу за 2 недеље</a:t>
            </a:r>
            <a:r>
              <a:rPr b="0" lang="sr-Latn-RS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69666e"/>
                </a:solidFill>
                <a:latin typeface="Calibri"/>
              </a:rPr>
              <a:t>Пример 3: информатор за пацијента</a:t>
            </a:r>
            <a:br>
              <a:rPr sz="3600"/>
            </a:br>
            <a:r>
              <a:rPr b="0" lang="sr-RS" sz="3600" spc="-1" strike="noStrike">
                <a:solidFill>
                  <a:srgbClr val="69666e"/>
                </a:solidFill>
                <a:latin typeface="Calibri"/>
              </a:rPr>
              <a:t>Операција катаракте</a:t>
            </a:r>
            <a:endParaRPr b="0" lang="en-US" sz="3600" spc="-1" strike="noStrike">
              <a:solidFill>
                <a:srgbClr val="69666e"/>
              </a:solidFill>
              <a:latin typeface="Calibri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Calibri"/>
              </a:rPr>
              <a:t>Шта треба знати пре операције катаракт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300" spc="-1" strike="noStrike">
                <a:solidFill>
                  <a:srgbClr val="69666e"/>
                </a:solidFill>
                <a:latin typeface="Calibri"/>
              </a:rPr>
              <a:t>Опште информације</a:t>
            </a:r>
            <a:endParaRPr b="0" lang="en-US" sz="4300" spc="-1" strike="noStrike">
              <a:solidFill>
                <a:srgbClr val="69666e"/>
              </a:solidFill>
              <a:latin typeface="Calibri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Катаракта представља замућење природног сочива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Једини начин да око које има катаракту поврати вид је операциј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Катаракта се из ока уклања стандардном операцијом или ултразвуком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У току операције уграђује се вештачко интраокуларно сочиво чију диоптрију, врсту материјала и дизајн одређује доктор индивидуално за сваког пацијент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300" spc="-1" strike="noStrike">
                <a:solidFill>
                  <a:srgbClr val="69666e"/>
                </a:solidFill>
                <a:latin typeface="Calibri"/>
              </a:rPr>
              <a:t>Информатор за пацијенте</a:t>
            </a:r>
            <a:endParaRPr b="0" lang="en-US" sz="4300" spc="-1" strike="noStrike">
              <a:solidFill>
                <a:srgbClr val="69666e"/>
              </a:solidFill>
              <a:latin typeface="Calibri"/>
            </a:endParaRPr>
          </a:p>
        </p:txBody>
      </p:sp>
      <p:sp>
        <p:nvSpPr>
          <p:cNvPr id="434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Сваком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пацијенту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кој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одлуч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н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операцију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катаракт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препоручуј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д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дисциплиновано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поштуј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правил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тако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допринес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бржем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опоравк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Пр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интервенциј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потребно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ј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урадит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неколико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преглед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 ККС, уреу, креатинин, гликемиј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Интернистички преглед и мишљење анестезиолога о операцији у локалној анестезиј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356840" y="14256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300" spc="-1" strike="noStrike">
                <a:solidFill>
                  <a:srgbClr val="69666e"/>
                </a:solidFill>
                <a:latin typeface="Calibri"/>
              </a:rPr>
              <a:t>Информатор за пацијента</a:t>
            </a:r>
            <a:endParaRPr b="0" lang="en-US" sz="4300" spc="-1" strike="noStrike">
              <a:solidFill>
                <a:srgbClr val="69666e"/>
              </a:solidFill>
              <a:latin typeface="Calibri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1000080" y="1142640"/>
            <a:ext cx="81439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Пет дана пред интервенцију у око предвиђено за операцију укапавају се капи 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Floxal (Marocen) 4x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дневн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Уколико редовно узимате неку терапију потребно је да је узмете и на дан интервенциј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Обавезан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је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разговор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с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анестезиологом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који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присуствује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све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време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операције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заједно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с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офталмологом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Током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интервенције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пацијент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комуницир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с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доктором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чује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шт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дешав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али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не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осећ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никакав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бо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Уколико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осетите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бол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током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операције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одмах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то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треб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д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кажете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доктор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900" spc="-1" strike="noStrike">
                <a:solidFill>
                  <a:srgbClr val="69666e"/>
                </a:solidFill>
                <a:latin typeface="Calibri"/>
              </a:rPr>
              <a:t>Информатор за пацијента</a:t>
            </a:r>
            <a:br>
              <a:rPr sz="3900"/>
            </a:br>
            <a:r>
              <a:rPr b="0" lang="sr-RS" sz="3900" spc="-1" strike="noStrike">
                <a:solidFill>
                  <a:srgbClr val="69666e"/>
                </a:solidFill>
                <a:latin typeface="Calibri"/>
              </a:rPr>
              <a:t>операција катаракте</a:t>
            </a:r>
            <a:endParaRPr b="0" lang="en-US" sz="3900" spc="-1" strike="noStrike">
              <a:solidFill>
                <a:srgbClr val="69666e"/>
              </a:solidFill>
              <a:latin typeface="Calibri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1285920" y="1447560"/>
            <a:ext cx="76485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Процедура</a:t>
            </a:r>
            <a:r>
              <a:rPr b="0" lang="vi-V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RS" sz="2800" spc="-1" strike="noStrike">
                <a:solidFill>
                  <a:srgbClr val="000000"/>
                </a:solidFill>
                <a:latin typeface="Calibri"/>
              </a:rPr>
              <a:t>уклањање</a:t>
            </a:r>
            <a:r>
              <a:rPr b="1" lang="vi-V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RS" sz="2800" spc="-1" strike="noStrike">
                <a:solidFill>
                  <a:srgbClr val="000000"/>
                </a:solidFill>
                <a:latin typeface="Calibri"/>
              </a:rPr>
              <a:t>катаракте</a:t>
            </a:r>
            <a:r>
              <a:rPr b="0" lang="vi-V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vi-V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обавља</a:t>
            </a:r>
            <a:r>
              <a:rPr b="0" lang="vi-V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vi-V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операционој</a:t>
            </a:r>
            <a:r>
              <a:rPr b="0" lang="vi-V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сали</a:t>
            </a:r>
            <a:r>
              <a:rPr b="0" lang="vi-V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под</a:t>
            </a:r>
            <a:r>
              <a:rPr b="0" lang="vi-V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стерилним</a:t>
            </a:r>
            <a:r>
              <a:rPr b="0" lang="vi-V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условима</a:t>
            </a:r>
            <a:r>
              <a:rPr b="0" lang="vi-V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vi-V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траје</a:t>
            </a:r>
            <a:r>
              <a:rPr b="0" lang="vi-VN" sz="2800" spc="-1" strike="noStrike">
                <a:solidFill>
                  <a:srgbClr val="000000"/>
                </a:solidFill>
                <a:latin typeface="Arial"/>
              </a:rPr>
              <a:t> 20-</a:t>
            </a: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так</a:t>
            </a:r>
            <a:r>
              <a:rPr b="0" lang="vi-V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минут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После</a:t>
            </a:r>
            <a:r>
              <a:rPr b="0" lang="vi-V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ширења</a:t>
            </a:r>
            <a:r>
              <a:rPr b="0" lang="vi-V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зеница</a:t>
            </a:r>
            <a:r>
              <a:rPr b="0" lang="vi-VN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операција</a:t>
            </a:r>
            <a:r>
              <a:rPr b="0" lang="vi-V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vi-V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обавља</a:t>
            </a:r>
            <a:r>
              <a:rPr b="0" lang="vi-V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vi-V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локалној</a:t>
            </a:r>
            <a:r>
              <a:rPr b="0" lang="vi-V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vi-VN" sz="2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или</a:t>
            </a:r>
            <a:r>
              <a:rPr b="0" lang="vi-V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капљичној</a:t>
            </a:r>
            <a:r>
              <a:rPr b="0" lang="vi-V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анестезиј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Прави</a:t>
            </a:r>
            <a:r>
              <a:rPr b="0" lang="vi-V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vi-V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мали</a:t>
            </a:r>
            <a:r>
              <a:rPr b="0" lang="vi-V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рез</a:t>
            </a:r>
            <a:r>
              <a:rPr b="0" lang="vi-V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величине</a:t>
            </a:r>
            <a:r>
              <a:rPr b="0" lang="vi-V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око</a:t>
            </a:r>
            <a:r>
              <a:rPr b="0" lang="vi-VN" sz="2800" spc="-1" strike="noStrike">
                <a:solidFill>
                  <a:srgbClr val="000000"/>
                </a:solidFill>
                <a:latin typeface="Arial"/>
              </a:rPr>
              <a:t> 3 </a:t>
            </a:r>
            <a:r>
              <a:rPr b="0" lang="sr-Latn-RS" sz="2800" spc="-1" strike="noStrike">
                <a:solidFill>
                  <a:srgbClr val="000000"/>
                </a:solidFill>
                <a:latin typeface="Calibri"/>
              </a:rPr>
              <a:t>mm</a:t>
            </a:r>
            <a:r>
              <a:rPr b="0" lang="vi-V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на</a:t>
            </a:r>
            <a:r>
              <a:rPr b="0" lang="vi-V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ивици</a:t>
            </a:r>
            <a:r>
              <a:rPr b="0" lang="vi-V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рожњаче</a:t>
            </a:r>
            <a:r>
              <a:rPr b="0" lang="vi-V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кроз</a:t>
            </a:r>
            <a:r>
              <a:rPr b="0" lang="vi-V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коју</a:t>
            </a:r>
            <a:r>
              <a:rPr b="0" lang="vi-V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vi-V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испира </a:t>
            </a: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предходно</a:t>
            </a:r>
            <a:r>
              <a:rPr b="0" lang="vi-V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ултразвучно</a:t>
            </a:r>
            <a:r>
              <a:rPr b="0" lang="vi-V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уситњено</a:t>
            </a:r>
            <a:r>
              <a:rPr b="0" lang="vi-V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природно</a:t>
            </a:r>
            <a:r>
              <a:rPr b="0" lang="vi-V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сочиво</a:t>
            </a:r>
            <a:r>
              <a:rPr b="0" lang="vi-VN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те</a:t>
            </a:r>
            <a:r>
              <a:rPr b="0" lang="vi-V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vi-V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уграђује</a:t>
            </a:r>
            <a:r>
              <a:rPr b="0" lang="vi-V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савитљиво</a:t>
            </a:r>
            <a:r>
              <a:rPr b="0" lang="vi-V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интраокуларно</a:t>
            </a:r>
            <a:r>
              <a:rPr b="0" lang="vi-V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сочиво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300" spc="-1" strike="noStrike">
                <a:solidFill>
                  <a:srgbClr val="69666e"/>
                </a:solidFill>
                <a:latin typeface="Calibri"/>
              </a:rPr>
              <a:t>Илустрована брошура</a:t>
            </a:r>
            <a:endParaRPr b="0" lang="en-US" sz="4300" spc="-1" strike="noStrike">
              <a:solidFill>
                <a:srgbClr val="69666e"/>
              </a:solidFill>
              <a:latin typeface="Calibri"/>
            </a:endParaRPr>
          </a:p>
        </p:txBody>
      </p:sp>
      <p:pic>
        <p:nvPicPr>
          <p:cNvPr id="440" name="Picture 2" descr="C:\Users\Sunshine\Desktop\img-katarakta-1.jpg"/>
          <p:cNvPicPr/>
          <p:nvPr/>
        </p:nvPicPr>
        <p:blipFill>
          <a:blip r:embed="rId1"/>
          <a:stretch/>
        </p:blipFill>
        <p:spPr>
          <a:xfrm>
            <a:off x="1928880" y="178596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441" name="Picture 3" descr="C:\Users\Sunshine\Desktop\img-katarakta-2.jpg"/>
          <p:cNvPicPr/>
          <p:nvPr/>
        </p:nvPicPr>
        <p:blipFill>
          <a:blip r:embed="rId2"/>
          <a:stretch/>
        </p:blipFill>
        <p:spPr>
          <a:xfrm>
            <a:off x="5429160" y="1785960"/>
            <a:ext cx="1905120" cy="1905120"/>
          </a:xfrm>
          <a:prstGeom prst="rect">
            <a:avLst/>
          </a:prstGeom>
          <a:ln w="0">
            <a:noFill/>
          </a:ln>
        </p:spPr>
      </p:pic>
      <p:pic>
        <p:nvPicPr>
          <p:cNvPr id="442" name="Picture 4" descr="C:\Users\Sunshine\Desktop\img-katarakta-3.jpg"/>
          <p:cNvPicPr/>
          <p:nvPr/>
        </p:nvPicPr>
        <p:blipFill>
          <a:blip r:embed="rId3"/>
          <a:stretch/>
        </p:blipFill>
        <p:spPr>
          <a:xfrm>
            <a:off x="1785960" y="4572000"/>
            <a:ext cx="1905120" cy="1905120"/>
          </a:xfrm>
          <a:prstGeom prst="rect">
            <a:avLst/>
          </a:prstGeom>
          <a:ln w="0">
            <a:noFill/>
          </a:ln>
        </p:spPr>
      </p:pic>
      <p:sp>
        <p:nvSpPr>
          <p:cNvPr id="443" name="TextBox 6"/>
          <p:cNvSpPr/>
          <p:nvPr/>
        </p:nvSpPr>
        <p:spPr>
          <a:xfrm>
            <a:off x="1143000" y="3786120"/>
            <a:ext cx="36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000000"/>
                </a:solidFill>
                <a:latin typeface="Arial"/>
              </a:rPr>
              <a:t>Корак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ултразвучно ломљење и усисаваље сочи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Box 7"/>
          <p:cNvSpPr/>
          <p:nvPr/>
        </p:nvSpPr>
        <p:spPr>
          <a:xfrm>
            <a:off x="5143680" y="3786120"/>
            <a:ext cx="3643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000000"/>
                </a:solidFill>
                <a:latin typeface="Arial"/>
              </a:rPr>
              <a:t>Корак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постављање савитљивог вештачког сочива у ок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Box 8"/>
          <p:cNvSpPr/>
          <p:nvPr/>
        </p:nvSpPr>
        <p:spPr>
          <a:xfrm>
            <a:off x="3929040" y="5429160"/>
            <a:ext cx="4071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000000"/>
                </a:solidFill>
                <a:latin typeface="Arial"/>
              </a:rPr>
              <a:t>Корак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позиционирање вештачког сочива и затварање улазног отво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300" spc="-1" strike="noStrike">
                <a:solidFill>
                  <a:srgbClr val="69666e"/>
                </a:solidFill>
                <a:latin typeface="Calibri"/>
              </a:rPr>
              <a:t>Информатор за пацијента</a:t>
            </a:r>
            <a:endParaRPr b="0" lang="en-US" sz="4300" spc="-1" strike="noStrike">
              <a:solidFill>
                <a:srgbClr val="69666e"/>
              </a:solidFill>
              <a:latin typeface="Calibri"/>
            </a:endParaRPr>
          </a:p>
        </p:txBody>
      </p:sp>
      <p:sp>
        <p:nvSpPr>
          <p:cNvPr id="44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Након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RS" sz="2000" spc="-1" strike="noStrike">
                <a:solidFill>
                  <a:srgbClr val="000000"/>
                </a:solidFill>
                <a:latin typeface="Calibri"/>
              </a:rPr>
              <a:t>операције</a:t>
            </a:r>
            <a:r>
              <a:rPr b="1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RS" sz="2000" spc="-1" strike="noStrike">
                <a:solidFill>
                  <a:srgbClr val="000000"/>
                </a:solidFill>
                <a:latin typeface="Calibri"/>
              </a:rPr>
              <a:t>катаракте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није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потребно да лежите у болници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2 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h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по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операцији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можете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да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идете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кући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уз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обавезну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пратњ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Оперисано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око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ће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бити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завијено са пластичном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шкољком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са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којом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ће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те спавати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због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заштит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Шкољка се скида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само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када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се стављају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капи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по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инструкцијама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које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је дао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доктор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Код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куће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треба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опустити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одмарати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слободно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може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јести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гледати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телевизиј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Постоперативни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третман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капима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траје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неколико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недеља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после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интервенциј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Уобичајено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је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да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већ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сутрадан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приметите побољшање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вида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али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је за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коначан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исход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потребно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неколико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недељ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Дан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после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операције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долази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на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прву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контролу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заказано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врем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300" spc="-1" strike="noStrike">
                <a:solidFill>
                  <a:srgbClr val="69666e"/>
                </a:solidFill>
                <a:latin typeface="Calibri"/>
              </a:rPr>
              <a:t>Информатор за пацијента</a:t>
            </a:r>
            <a:endParaRPr b="0" lang="en-US" sz="4300" spc="-1" strike="noStrike">
              <a:solidFill>
                <a:srgbClr val="69666e"/>
              </a:solidFill>
              <a:latin typeface="Calibri"/>
            </a:endParaRPr>
          </a:p>
        </p:txBody>
      </p:sp>
      <p:sp>
        <p:nvSpPr>
          <p:cNvPr id="44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Нормално</a:t>
            </a:r>
            <a:r>
              <a:rPr b="0" lang="vi-VN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је</a:t>
            </a:r>
            <a:r>
              <a:rPr b="0" lang="vi-VN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да</a:t>
            </a:r>
            <a:r>
              <a:rPr b="0" lang="vi-VN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пацијент</a:t>
            </a:r>
            <a:r>
              <a:rPr b="0" lang="vi-VN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после</a:t>
            </a:r>
            <a:r>
              <a:rPr b="0" lang="vi-VN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интервенције</a:t>
            </a:r>
            <a:r>
              <a:rPr b="0" lang="vi-VN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осећа</a:t>
            </a:r>
            <a:r>
              <a:rPr b="0" lang="vi-VN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благо</a:t>
            </a:r>
            <a:r>
              <a:rPr b="0" lang="vi-VN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гребуцкање</a:t>
            </a:r>
            <a:r>
              <a:rPr b="0" lang="vi-VN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vi-VN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нелагодност</a:t>
            </a:r>
            <a:r>
              <a:rPr b="0" lang="vi-VN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vi-VN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оку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Требало</a:t>
            </a:r>
            <a:r>
              <a:rPr b="0" lang="vi-VN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би</a:t>
            </a:r>
            <a:r>
              <a:rPr b="0" lang="vi-VN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да</a:t>
            </a:r>
            <a:r>
              <a:rPr b="0" lang="vi-VN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можете</a:t>
            </a:r>
            <a:r>
              <a:rPr b="0" lang="vi-VN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да</a:t>
            </a:r>
            <a:r>
              <a:rPr b="0" lang="vi-VN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возите</a:t>
            </a:r>
            <a:r>
              <a:rPr b="0" lang="vi-VN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vi-VN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да</a:t>
            </a:r>
            <a:r>
              <a:rPr b="0" lang="vi-VN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vi-VN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вратите</a:t>
            </a:r>
            <a:r>
              <a:rPr b="0" lang="vi-VN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послу</a:t>
            </a:r>
            <a:r>
              <a:rPr b="0" lang="vi-VN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vi-VN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року</a:t>
            </a:r>
            <a:r>
              <a:rPr b="0" lang="vi-VN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неколико</a:t>
            </a:r>
            <a:r>
              <a:rPr b="0" lang="vi-VN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дана</a:t>
            </a:r>
            <a:r>
              <a:rPr b="0" lang="vi-VN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од</a:t>
            </a:r>
            <a:r>
              <a:rPr b="0" lang="vi-VN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интервенције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Имајте</a:t>
            </a:r>
            <a:r>
              <a:rPr b="0" lang="vi-VN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на</a:t>
            </a:r>
            <a:r>
              <a:rPr b="0" lang="vi-VN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уму</a:t>
            </a:r>
            <a:r>
              <a:rPr b="0" lang="vi-VN" sz="2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да</a:t>
            </a:r>
            <a:r>
              <a:rPr b="0" lang="vi-VN" sz="2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уколико</a:t>
            </a:r>
            <a:r>
              <a:rPr b="0" lang="vi-VN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имате</a:t>
            </a:r>
            <a:r>
              <a:rPr b="0" lang="vi-VN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катаракту</a:t>
            </a:r>
            <a:r>
              <a:rPr b="0" lang="vi-VN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на</a:t>
            </a:r>
            <a:r>
              <a:rPr b="0" lang="vi-VN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оба</a:t>
            </a:r>
            <a:r>
              <a:rPr b="0" lang="vi-VN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ока</a:t>
            </a:r>
            <a:r>
              <a:rPr b="0" lang="vi-VN" sz="2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вид</a:t>
            </a:r>
            <a:r>
              <a:rPr b="0" lang="vi-VN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ће</a:t>
            </a:r>
            <a:r>
              <a:rPr b="0" lang="vi-VN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вам</a:t>
            </a:r>
            <a:r>
              <a:rPr b="0" lang="vi-VN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бити</a:t>
            </a:r>
            <a:r>
              <a:rPr b="0" lang="vi-VN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неуравнотежен</a:t>
            </a:r>
            <a:r>
              <a:rPr b="0" lang="vi-VN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због катаракте другог ока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Такође</a:t>
            </a:r>
            <a:r>
              <a:rPr b="0" lang="vi-VN" sz="2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можете</a:t>
            </a:r>
            <a:r>
              <a:rPr b="0" lang="vi-VN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имати</a:t>
            </a:r>
            <a:r>
              <a:rPr b="0" lang="vi-VN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заб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љ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ештење</a:t>
            </a:r>
            <a:r>
              <a:rPr b="0" lang="vi-VN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према</a:t>
            </a:r>
            <a:r>
              <a:rPr b="0" lang="vi-VN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извору</a:t>
            </a:r>
            <a:r>
              <a:rPr b="0" lang="vi-VN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светлости</a:t>
            </a:r>
            <a:r>
              <a:rPr b="0" lang="vi-VN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vi-VN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око</a:t>
            </a:r>
            <a:r>
              <a:rPr b="0" lang="vi-VN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може</a:t>
            </a:r>
            <a:r>
              <a:rPr b="0" lang="vi-VN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бити</a:t>
            </a:r>
            <a:r>
              <a:rPr b="0" lang="vi-VN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благо</a:t>
            </a:r>
            <a:r>
              <a:rPr b="0" lang="vi-VN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црвено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Сви</a:t>
            </a:r>
            <a:r>
              <a:rPr b="0" lang="vi-VN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ови</a:t>
            </a:r>
            <a:r>
              <a:rPr b="0" lang="vi-VN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симптоми</a:t>
            </a:r>
            <a:r>
              <a:rPr b="0" lang="vi-VN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су</a:t>
            </a:r>
            <a:r>
              <a:rPr b="0" lang="vi-VN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нормални</a:t>
            </a:r>
            <a:r>
              <a:rPr b="0" lang="vi-VN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vi-VN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постепено</a:t>
            </a:r>
            <a:r>
              <a:rPr b="0" lang="vi-VN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нестају</a:t>
            </a:r>
            <a:r>
              <a:rPr b="0" lang="vi-VN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наредних</a:t>
            </a:r>
            <a:r>
              <a:rPr b="0" lang="vi-VN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неколико</a:t>
            </a:r>
            <a:r>
              <a:rPr b="0" lang="vi-VN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дана</a:t>
            </a:r>
            <a:r>
              <a:rPr b="0" lang="vi-VN" sz="2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док</a:t>
            </a:r>
            <a:r>
              <a:rPr b="0" lang="vi-VN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vi-VN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око</a:t>
            </a:r>
            <a:r>
              <a:rPr b="0" lang="vi-VN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сасвим</a:t>
            </a:r>
            <a:r>
              <a:rPr b="0" lang="vi-VN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опорави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200" spc="-1" strike="noStrike">
                <a:solidFill>
                  <a:srgbClr val="000000"/>
                </a:solidFill>
                <a:latin typeface="Calibri"/>
              </a:rPr>
              <a:t>Резултати</a:t>
            </a:r>
            <a:r>
              <a:rPr b="1" lang="vi-VN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RS" sz="2200" spc="-1" strike="noStrike">
                <a:solidFill>
                  <a:srgbClr val="000000"/>
                </a:solidFill>
                <a:latin typeface="Calibri"/>
              </a:rPr>
              <a:t>операције</a:t>
            </a:r>
            <a:r>
              <a:rPr b="1" lang="vi-VN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RS" sz="2200" spc="-1" strike="noStrike">
                <a:solidFill>
                  <a:srgbClr val="000000"/>
                </a:solidFill>
                <a:latin typeface="Calibri"/>
              </a:rPr>
              <a:t>зависе</a:t>
            </a:r>
            <a:r>
              <a:rPr b="1" lang="vi-VN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RS" sz="22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1" lang="vi-VN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RS" sz="2200" spc="-1" strike="noStrike">
                <a:solidFill>
                  <a:srgbClr val="000000"/>
                </a:solidFill>
                <a:latin typeface="Calibri"/>
              </a:rPr>
              <a:t>од</a:t>
            </a:r>
            <a:r>
              <a:rPr b="1" lang="vi-VN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RS" sz="2200" spc="-1" strike="noStrike">
                <a:solidFill>
                  <a:srgbClr val="000000"/>
                </a:solidFill>
                <a:latin typeface="Calibri"/>
              </a:rPr>
              <a:t>пацијентове</a:t>
            </a:r>
            <a:r>
              <a:rPr b="1" lang="vi-VN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RS" sz="2200" spc="-1" strike="noStrike">
                <a:solidFill>
                  <a:srgbClr val="000000"/>
                </a:solidFill>
                <a:latin typeface="Calibri"/>
              </a:rPr>
              <a:t>дисциплине</a:t>
            </a:r>
            <a:r>
              <a:rPr b="1" lang="vi-VN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RS" sz="22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1" lang="vi-VN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RS" sz="2200" spc="-1" strike="noStrike">
                <a:solidFill>
                  <a:srgbClr val="000000"/>
                </a:solidFill>
                <a:latin typeface="Calibri"/>
              </a:rPr>
              <a:t>примени</a:t>
            </a:r>
            <a:r>
              <a:rPr b="1" lang="vi-VN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RS" sz="2200" spc="-1" strike="noStrike">
                <a:solidFill>
                  <a:srgbClr val="000000"/>
                </a:solidFill>
                <a:latin typeface="Calibri"/>
              </a:rPr>
              <a:t>прописане</a:t>
            </a:r>
            <a:r>
              <a:rPr b="1" lang="vi-VN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RS" sz="2200" spc="-1" strike="noStrike">
                <a:solidFill>
                  <a:srgbClr val="000000"/>
                </a:solidFill>
                <a:latin typeface="Calibri"/>
              </a:rPr>
              <a:t>терапије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9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900" spc="-1" strike="noStrike">
                <a:solidFill>
                  <a:srgbClr val="69666e"/>
                </a:solidFill>
                <a:latin typeface="Calibri"/>
              </a:rPr>
              <a:t>Кључни фактори добре комплијансе дијагностичких и терапијскух процедура су:</a:t>
            </a:r>
            <a:endParaRPr b="0" lang="en-US" sz="3900" spc="-1" strike="noStrike">
              <a:solidFill>
                <a:srgbClr val="69666e"/>
              </a:solidFill>
              <a:latin typeface="Calibri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1434960" y="2285640"/>
            <a:ext cx="74995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Информациј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Едукациј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Комуникациј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300" spc="-1" strike="noStrike">
                <a:solidFill>
                  <a:srgbClr val="69666e"/>
                </a:solidFill>
                <a:latin typeface="Calibri"/>
              </a:rPr>
              <a:t>Информатор за пацијента</a:t>
            </a:r>
            <a:endParaRPr b="0" lang="en-US" sz="4300" spc="-1" strike="noStrike">
              <a:solidFill>
                <a:srgbClr val="69666e"/>
              </a:solidFill>
              <a:latin typeface="Calibri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1071360" y="1447560"/>
            <a:ext cx="7862760" cy="51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Након операције</a:t>
            </a:r>
            <a:r>
              <a:rPr b="0" lang="vi-VN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Пре стављања капи руке добро опрати сапуном и водом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Око не дирати</a:t>
            </a:r>
            <a:r>
              <a:rPr b="0" lang="vi-VN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или</a:t>
            </a:r>
            <a:r>
              <a:rPr b="0" lang="vi-VN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трљати</a:t>
            </a:r>
            <a:r>
              <a:rPr b="0" lang="vi-VN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рукам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Уколио имате животиње бригу о њима препустити другоме наредних месец дан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Не</a:t>
            </a:r>
            <a:r>
              <a:rPr b="0" lang="vi-VN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дозволити</a:t>
            </a:r>
            <a:r>
              <a:rPr b="0" lang="vi-VN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да</a:t>
            </a:r>
            <a:r>
              <a:rPr b="0" lang="vi-VN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vi-VN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око</a:t>
            </a:r>
            <a:r>
              <a:rPr b="0" lang="vi-VN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уђе</a:t>
            </a:r>
            <a:r>
              <a:rPr b="0" lang="vi-VN" sz="2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вода</a:t>
            </a:r>
            <a:r>
              <a:rPr b="0" lang="vi-VN" sz="2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сапун</a:t>
            </a:r>
            <a:r>
              <a:rPr b="0" lang="vi-VN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vi-VN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шампон</a:t>
            </a:r>
            <a:r>
              <a:rPr b="0" lang="vi-VN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vi-VN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наредних 7 дан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Не</a:t>
            </a:r>
            <a:r>
              <a:rPr b="0" lang="vi-VN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подизати</a:t>
            </a:r>
            <a:r>
              <a:rPr b="0" lang="vi-VN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тежак</a:t>
            </a:r>
            <a:r>
              <a:rPr b="0" lang="vi-VN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терет</a:t>
            </a:r>
            <a:r>
              <a:rPr b="0" lang="vi-VN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vi-VN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не</a:t>
            </a:r>
            <a:r>
              <a:rPr b="0" lang="vi-VN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сагињати</a:t>
            </a:r>
            <a:r>
              <a:rPr b="0" lang="vi-VN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се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Не</a:t>
            </a:r>
            <a:r>
              <a:rPr b="0" lang="vi-VN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купајте</a:t>
            </a:r>
            <a:r>
              <a:rPr b="0" lang="vi-VN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vi-VN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vi-VN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језеру</a:t>
            </a:r>
            <a:r>
              <a:rPr b="0" lang="vi-VN" sz="2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реци</a:t>
            </a:r>
            <a:r>
              <a:rPr b="0" lang="vi-VN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или</a:t>
            </a:r>
            <a:r>
              <a:rPr b="0" lang="vi-VN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базену</a:t>
            </a:r>
            <a:r>
              <a:rPr b="0" lang="vi-VN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vi-VN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наредних</a:t>
            </a:r>
            <a:r>
              <a:rPr b="0" lang="vi-VN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месец</a:t>
            </a:r>
            <a:r>
              <a:rPr b="0" lang="vi-VN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дан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Избегавајте</a:t>
            </a:r>
            <a:r>
              <a:rPr b="0" lang="vi-VN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задимљене</a:t>
            </a:r>
            <a:r>
              <a:rPr b="0" lang="vi-VN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просторије</a:t>
            </a:r>
            <a:r>
              <a:rPr b="0" lang="vi-VN" sz="2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гужву</a:t>
            </a:r>
            <a:r>
              <a:rPr b="0" lang="vi-VN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vi-VN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градском</a:t>
            </a:r>
            <a:r>
              <a:rPr b="0" lang="vi-VN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превозу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Не</a:t>
            </a:r>
            <a:r>
              <a:rPr b="0" lang="vi-VN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шминкајти</a:t>
            </a:r>
            <a:r>
              <a:rPr b="0" lang="vi-VN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се и не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користити те</a:t>
            </a:r>
            <a:r>
              <a:rPr b="0" lang="vi-VN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маскару</a:t>
            </a:r>
            <a:r>
              <a:rPr b="0" lang="vi-VN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наредних</a:t>
            </a:r>
            <a:r>
              <a:rPr b="0" lang="vi-VN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месец</a:t>
            </a:r>
            <a:r>
              <a:rPr b="0" lang="vi-VN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дан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900" spc="-1" strike="noStrike">
                <a:solidFill>
                  <a:srgbClr val="69666e"/>
                </a:solidFill>
                <a:latin typeface="Calibri"/>
              </a:rPr>
              <a:t>Постоперативна видна оштрина</a:t>
            </a:r>
            <a:endParaRPr b="0" lang="en-US" sz="3900" spc="-1" strike="noStrike">
              <a:solidFill>
                <a:srgbClr val="69666e"/>
              </a:solidFill>
              <a:latin typeface="Calibri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Не зависи само од коректно урађене операције него и од стања мрежњаче и видног живц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Посебан опрез захтевају пацијенти са активним запаљењем ока, високом кратковидошћу, дијабетесом, глаукомом, пацијенти који узимају неке лекове и пацијенти са само једним функционалним око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300" spc="-1" strike="noStrike">
                <a:solidFill>
                  <a:srgbClr val="69666e"/>
                </a:solidFill>
                <a:latin typeface="Calibri"/>
              </a:rPr>
              <a:t>Ризици хирургије катаракте</a:t>
            </a:r>
            <a:endParaRPr b="0" lang="en-US" sz="4300" spc="-1" strike="noStrike">
              <a:solidFill>
                <a:srgbClr val="69666e"/>
              </a:solidFill>
              <a:latin typeface="Calibri"/>
            </a:endParaRPr>
          </a:p>
        </p:txBody>
      </p:sp>
      <p:sp>
        <p:nvSpPr>
          <p:cNvPr id="45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700" spc="-1" strike="noStrike">
                <a:solidFill>
                  <a:srgbClr val="000000"/>
                </a:solidFill>
                <a:latin typeface="Calibri"/>
              </a:rPr>
              <a:t>Компликације у току операције катаракте су ретке и јављају се у 1-2%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700" spc="-1" strike="noStrike">
                <a:solidFill>
                  <a:srgbClr val="000000"/>
                </a:solidFill>
                <a:latin typeface="Calibri"/>
              </a:rPr>
              <a:t>Замућење рожњаче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700" spc="-1" strike="noStrike">
                <a:solidFill>
                  <a:srgbClr val="000000"/>
                </a:solidFill>
                <a:latin typeface="Calibri"/>
              </a:rPr>
              <a:t>Одвајање мрежњаче 1%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700" spc="-1" strike="noStrike">
                <a:solidFill>
                  <a:srgbClr val="000000"/>
                </a:solidFill>
                <a:latin typeface="Calibri"/>
              </a:rPr>
              <a:t>Тешка крварења 1-2 на 1000 случајева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700" spc="-1" strike="noStrike">
                <a:solidFill>
                  <a:srgbClr val="000000"/>
                </a:solidFill>
                <a:latin typeface="Calibri"/>
              </a:rPr>
              <a:t>Промене облика зенице, оштећење дужице, промена положаја капака, секундарни глауком, дислокација сочива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700" spc="-1" strike="noStrike">
                <a:solidFill>
                  <a:srgbClr val="000000"/>
                </a:solidFill>
                <a:latin typeface="Calibri"/>
              </a:rPr>
              <a:t>Уколико имате било какава друга питања или су вам потребна додатна обавештења слободни сте да продискутујете са својим доктором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900" spc="-1" strike="noStrike">
                <a:solidFill>
                  <a:srgbClr val="69666e"/>
                </a:solidFill>
                <a:latin typeface="Calibri"/>
              </a:rPr>
              <a:t>Ризици услед одлагања или одустајања од операције</a:t>
            </a:r>
            <a:endParaRPr b="0" lang="en-US" sz="3900" spc="-1" strike="noStrike">
              <a:solidFill>
                <a:srgbClr val="69666e"/>
              </a:solidFill>
              <a:latin typeface="Calibri"/>
            </a:endParaRPr>
          </a:p>
        </p:txBody>
      </p:sp>
      <p:sp>
        <p:nvSpPr>
          <p:cNvPr id="457" name=""/>
          <p:cNvSpPr txBox="1"/>
          <p:nvPr/>
        </p:nvSpPr>
        <p:spPr>
          <a:xfrm>
            <a:off x="1213920" y="1447560"/>
            <a:ext cx="7720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Операција катаракте најчешће није хитна интервенциј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Планира се у зависности од степена оштећења вида и ваших индивидуалних потреб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Ипак у случају дуготрајног одлагања може доћи до тога да катаракта постане исувише тврда што повећава оперативни ризик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Ретко може доћи до напада глаукома или јаког запаљења услед презрелости катаракте што може довести до трајног оштећења вид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300" spc="-1" strike="noStrike">
                <a:solidFill>
                  <a:srgbClr val="69666e"/>
                </a:solidFill>
                <a:latin typeface="Calibri"/>
              </a:rPr>
              <a:t>Информисани пристанак</a:t>
            </a:r>
            <a:endParaRPr b="0" lang="en-US" sz="4300" spc="-1" strike="noStrike">
              <a:solidFill>
                <a:srgbClr val="69666e"/>
              </a:solidFill>
              <a:latin typeface="Calibri"/>
            </a:endParaRPr>
          </a:p>
        </p:txBody>
      </p:sp>
      <p:sp>
        <p:nvSpPr>
          <p:cNvPr id="45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Сваки пацијент добија штампани информато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Својим потписом потврђује да је прочитао и разумео природу своје болести, да је упознат с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врстом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планиран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интеренциј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врстом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анестезиј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ризицим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могућим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компликацијам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хируршк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интервенциј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300" spc="-1" strike="noStrike">
                <a:solidFill>
                  <a:srgbClr val="69666e"/>
                </a:solidFill>
                <a:latin typeface="Calibri"/>
              </a:rPr>
              <a:t>Закључак </a:t>
            </a:r>
            <a:endParaRPr b="0" lang="en-US" sz="4300" spc="-1" strike="noStrike">
              <a:solidFill>
                <a:srgbClr val="69666e"/>
              </a:solidFill>
              <a:latin typeface="Calibri"/>
            </a:endParaRPr>
          </a:p>
        </p:txBody>
      </p:sp>
      <p:sp>
        <p:nvSpPr>
          <p:cNvPr id="46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7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Пацијент мора преузети одговорност за своје здравље и прихватити терапијске и дијагностичке процедуре које доприносе побољшању његовог здравља и квалитету његовог живота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700" spc="-1" strike="noStrike">
                <a:solidFill>
                  <a:srgbClr val="000000"/>
                </a:solidFill>
                <a:latin typeface="Calibri"/>
              </a:rPr>
              <a:t>Лекар мора помоћи пацијенту да разуме значај терапијских и дијагностичких процедура као и последице не предузимања истих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7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Потребан је мултидисциплинарни приступ који укључује лекара, медицинског техничара, чланове породице, социјалне раднике, групе за подршку, фармацеуте у циљу веће ефикасности лечења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 txBox="1"/>
          <p:nvPr/>
        </p:nvSpPr>
        <p:spPr>
          <a:xfrm>
            <a:off x="1434960" y="620280"/>
            <a:ext cx="7499520" cy="562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Информисање пацијента прати исти образац информисања без обзира на место и тип дијагностичке и терапијске процедуре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Након обављања клиничког прегледа, постављања радне дијагнозе  и индикације за дијагностичку или терапијску процедуру неопходно је да лекар пацијенту,  старатељу или овлашћеном члану породице уколико пацијент  није у стању да самостално доноси одлуку, детаљно образложи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природу болести,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разлоге о потреби  извођења наведене процедуре као и ризике извођења или не прихватања исте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300" spc="-1" strike="noStrike">
                <a:solidFill>
                  <a:srgbClr val="69666e"/>
                </a:solidFill>
                <a:latin typeface="Calibri"/>
              </a:rPr>
              <a:t>План лечења</a:t>
            </a:r>
            <a:endParaRPr b="0" lang="en-US" sz="4300" spc="-1" strike="noStrike">
              <a:solidFill>
                <a:srgbClr val="69666e"/>
              </a:solidFill>
              <a:latin typeface="Calibri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Мора бити једностава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Праћен писаном инструкцијо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300" spc="-1" strike="noStrike">
                <a:solidFill>
                  <a:srgbClr val="69666e"/>
                </a:solidFill>
                <a:latin typeface="Calibri"/>
              </a:rPr>
              <a:t>План лечења треба да садржи:</a:t>
            </a:r>
            <a:endParaRPr b="0" lang="en-US" sz="4300" spc="-1" strike="noStrike">
              <a:solidFill>
                <a:srgbClr val="69666e"/>
              </a:solidFill>
              <a:latin typeface="Calibri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Радну дијагноз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Информисање и едуковање пацијента о болести као и предложеним дијагностичким и терапијским процедурам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Циљ лечењ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Уколико је доступан, информатор за пацијента у писаној форми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Сагласност пацијен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30T11:19:47Z</dcterms:created>
  <dc:creator>Sunshine</dc:creator>
  <dc:description/>
  <dc:language>en-US</dc:language>
  <cp:lastModifiedBy>Slavica</cp:lastModifiedBy>
  <dcterms:modified xsi:type="dcterms:W3CDTF">2017-01-28T18:51:51Z</dcterms:modified>
  <cp:revision>205</cp:revision>
  <dc:subject/>
  <dc:title>Вештина комуникације код спровођења дијагностичко терапијских процедура</dc:title>
</cp:coreProperties>
</file>